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9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A6F-A3F1-4DC5-9CC6-21C9938BDB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AB8-3ED7-4F9C-AE4D-A276F98CEC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1AC-B556-40F6-9486-189075D11B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EAE-2581-417D-AA4A-5BB47FEC92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AFD-9D76-4D4C-98CF-5A8A9FBBF8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EEF-2AA0-465D-915E-67649C2747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E00B-75B8-4D6C-B469-FE77B1199D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B2C8-1246-4465-98EA-FB184CCC18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7779-5B8D-4627-8595-126A582BE4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3A4-3244-4251-95A8-39F9432B8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1B7-AFC0-4F1D-9F55-C0E2F5CAC3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5667-3B18-4C01-9B81-23CA86424C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620-C760-4D13-9501-1CA65F2E9C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4EB-365A-4FAA-845F-92A44758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769-0E5E-478C-ADA5-219ADECC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700-2763-4BE6-A896-517E91A9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9C6-E29E-4FA9-89EF-2142E0F2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5C8-08A5-42D2-8B1D-E4CE5D15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F5F1-2D14-41E8-81DF-7B2FBAC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CE7-5BCE-413B-BE1B-FAD60D3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ED84-185B-400E-865E-541A96C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EB18-5577-4FAB-BF28-56C8345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651A-C923-40A2-AACD-45E38D0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975-DCF4-4258-BBEE-A241519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386-F206-49A8-9B86-EA92A14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F977-00A3-4A94-9168-7905C2B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704-8D63-4D43-89E2-D7E6D282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7AEB-4D87-4255-A005-129DF9A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62C-8620-43F7-9348-589174FD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EA4F-1087-49E2-8C96-5003CBA4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E988-5EDE-457B-9179-3978BF49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6476-8AEB-49AC-9630-85A6A5F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2B4E-D945-43F5-AABA-F134B21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583F-5346-4FE2-BDD9-25A9CD9A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FA51-58C6-42B5-909B-1159543C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545-25E6-4F04-BFB8-4810282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67E1-E89F-49D8-A0E5-C2281A49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AD6D-376F-4718-A8E6-0D3F024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13B2-59F5-4C13-BBA6-4E9CD23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5BA4-25FA-4F9B-8195-6FE80055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6FB7-7947-4702-A83B-0AF37C5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01D1-8DA3-432D-A473-15C16D19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05F1-9A81-4FF2-8412-AFADDB0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29E6-08DC-41E7-9329-926F73E2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079B-7FE3-490F-A809-80C258F6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3C30-EE9B-4366-8655-E9B9580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52E-29E9-4545-8D34-102D0B0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0818-E005-4246-8B75-2FAFC25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F296-2E81-493A-A511-567EB71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DAF0-8B04-449E-AC92-352D44B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A352-2324-4142-823F-83BFEF0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4535-8136-4D25-9446-66687DB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0320-22C4-46FB-9E54-910E67A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DF79-EDA4-4671-A22A-F7692F2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EC56-5141-4FF4-840C-E2F051F2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52E5-7313-4BA5-80D5-DF3C7524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95C1-C27F-416F-8ABE-0544BDB8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BF2-66AE-46B2-A358-0F3476D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7A8E-7EC8-4B11-A0CC-729A853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D5194-E581-43B7-873C-6612684A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A8D1-690D-49E5-B7AA-E5CB14BE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C888-C702-4CE9-9D57-23FF3226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0471B-84F7-489D-BA9B-294F8DB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4A84-E10A-412C-AACF-1CDC444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AEBF-4095-4EEF-BF0A-AB37015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F9BB-FD36-424A-A83C-3DE621D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CABE-A94B-4879-87B2-F41D5490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BA45-BF2D-4AF3-9FA2-0C94B399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489-3A06-4511-A30E-F00E544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BF2E-2425-4A92-B9E5-FB85178B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DEC-C40E-4DB5-AB66-1FF0AA1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332-A13F-4F65-893E-263BC59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F51-B3C2-4A38-8F7D-4AFE0DC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6B9-DE90-4118-BBC6-E57E3961D145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3F4-FA40-4B79-A160-C81CA6479957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E30-287D-4425-B7B1-36BF5D43B98E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B0F-409F-4D8A-9C70-6F8FCA76CB0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C66-64FB-40F2-A614-2FD72512ADB9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-353880" y="1638360"/>
            <a:ext cx="9747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9b2d1f"/>
                </a:solidFill>
                <a:latin typeface="Arial"/>
              </a:rPr>
              <a:t>From Target-Breast to Target-Mela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Prof. William M. Galla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ce-Principal of Research and Innovation, UCD College of Life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ociate Professor of Cancer Biolog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UCD School of Biomolecular &amp; Biomed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way Fellow, UCD Conway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-Founder/Chief Scientific Officer, OncoMark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782440" y="5889600"/>
            <a:ext cx="3550320" cy="459720"/>
          </a:xfrm>
          <a:prstGeom prst="rect">
            <a:avLst/>
          </a:prstGeom>
          <a:solidFill>
            <a:srgbClr val="e89421"/>
          </a:solidFill>
          <a:ln w="9360">
            <a:solidFill>
              <a:srgbClr val="f3a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liam.gallagher@ucd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6" descr="building.jpg"/>
          <p:cNvPicPr/>
          <p:nvPr/>
        </p:nvPicPr>
        <p:blipFill>
          <a:blip r:embed="rId1"/>
          <a:stretch/>
        </p:blipFill>
        <p:spPr>
          <a:xfrm>
            <a:off x="520560" y="2411280"/>
            <a:ext cx="3530880" cy="1266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865520" y="326880"/>
            <a:ext cx="533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Arial"/>
              </a:rPr>
              <a:t>Marie Curie IAPP/I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Arial"/>
              </a:rPr>
              <a:t>29</a:t>
            </a:r>
            <a:r>
              <a:rPr b="1" lang="en-IE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70c0"/>
                </a:solidFill>
                <a:latin typeface="Arial"/>
              </a:rPr>
              <a:t> September 2010, Royal Irish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rcRect l="14509" t="14690" r="62650" b="72190"/>
          <a:stretch/>
        </p:blipFill>
        <p:spPr>
          <a:xfrm>
            <a:off x="162000" y="5865840"/>
            <a:ext cx="1974600" cy="638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7" descr="novaucd%20360.jpg"/>
          <p:cNvPicPr/>
          <p:nvPr/>
        </p:nvPicPr>
        <p:blipFill>
          <a:blip r:embed="rId4"/>
          <a:stretch/>
        </p:blipFill>
        <p:spPr>
          <a:xfrm>
            <a:off x="4346640" y="2646360"/>
            <a:ext cx="44654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0"/>
          <p:cNvGrpSpPr/>
          <p:nvPr/>
        </p:nvGrpSpPr>
        <p:grpSpPr>
          <a:xfrm>
            <a:off x="193680" y="604800"/>
            <a:ext cx="8670960" cy="5730840"/>
            <a:chOff x="193680" y="604800"/>
            <a:chExt cx="8670960" cy="5730840"/>
          </a:xfrm>
        </p:grpSpPr>
        <p:pic>
          <p:nvPicPr>
            <p:cNvPr id="311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3680" y="60480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6"/>
            <p:cNvGrpSpPr/>
            <p:nvPr/>
          </p:nvGrpSpPr>
          <p:grpSpPr>
            <a:xfrm>
              <a:off x="3561840" y="5397120"/>
              <a:ext cx="1434600" cy="510840"/>
              <a:chOff x="3561840" y="5397120"/>
              <a:chExt cx="1434600" cy="510840"/>
            </a:xfrm>
          </p:grpSpPr>
          <p:sp>
            <p:nvSpPr>
              <p:cNvPr id="313" name="Rectangle 7"/>
              <p:cNvSpPr/>
              <p:nvPr/>
            </p:nvSpPr>
            <p:spPr>
              <a:xfrm>
                <a:off x="3561840" y="539712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"/>
              <p:cNvSpPr/>
              <p:nvPr/>
            </p:nvSpPr>
            <p:spPr>
              <a:xfrm>
                <a:off x="3632760" y="546516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3"/>
          <p:cNvGrpSpPr/>
          <p:nvPr/>
        </p:nvGrpSpPr>
        <p:grpSpPr>
          <a:xfrm>
            <a:off x="295200" y="920880"/>
            <a:ext cx="6867720" cy="3682080"/>
            <a:chOff x="295200" y="920880"/>
            <a:chExt cx="6867720" cy="3682080"/>
          </a:xfrm>
        </p:grpSpPr>
        <p:grpSp>
          <p:nvGrpSpPr>
            <p:cNvPr id="316" name="Group 22"/>
            <p:cNvGrpSpPr/>
            <p:nvPr/>
          </p:nvGrpSpPr>
          <p:grpSpPr>
            <a:xfrm>
              <a:off x="295200" y="1085760"/>
              <a:ext cx="6867720" cy="3517200"/>
              <a:chOff x="295200" y="1085760"/>
              <a:chExt cx="6867720" cy="3517200"/>
            </a:xfrm>
          </p:grpSpPr>
          <p:sp>
            <p:nvSpPr>
              <p:cNvPr id="317" name="Rectangle 7"/>
              <p:cNvSpPr/>
              <p:nvPr/>
            </p:nvSpPr>
            <p:spPr>
              <a:xfrm>
                <a:off x="295200" y="1199880"/>
                <a:ext cx="2048040" cy="329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"/>
              <p:cNvSpPr/>
              <p:nvPr/>
            </p:nvSpPr>
            <p:spPr>
              <a:xfrm>
                <a:off x="1018800" y="3038400"/>
                <a:ext cx="2048040" cy="154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9"/>
              <p:cNvSpPr/>
              <p:nvPr/>
            </p:nvSpPr>
            <p:spPr>
              <a:xfrm>
                <a:off x="5348520" y="2228760"/>
                <a:ext cx="1805040" cy="125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0"/>
              <p:cNvSpPr/>
              <p:nvPr/>
            </p:nvSpPr>
            <p:spPr>
              <a:xfrm>
                <a:off x="4514760" y="1085760"/>
                <a:ext cx="1419120" cy="170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1"/>
              <p:cNvSpPr/>
              <p:nvPr/>
            </p:nvSpPr>
            <p:spPr>
              <a:xfrm>
                <a:off x="6010560" y="2695320"/>
                <a:ext cx="1152360" cy="12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2"/>
              <p:cNvSpPr/>
              <p:nvPr/>
            </p:nvSpPr>
            <p:spPr>
              <a:xfrm>
                <a:off x="6363000" y="3791160"/>
                <a:ext cx="79056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3"/>
              <p:cNvSpPr/>
              <p:nvPr/>
            </p:nvSpPr>
            <p:spPr>
              <a:xfrm>
                <a:off x="6591600" y="4162680"/>
                <a:ext cx="54288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 rot="1589400">
                <a:off x="3828600" y="3809880"/>
                <a:ext cx="217440" cy="78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15"/>
              <p:cNvSpPr/>
              <p:nvPr/>
            </p:nvSpPr>
            <p:spPr>
              <a:xfrm>
                <a:off x="4838760" y="3298680"/>
                <a:ext cx="217440" cy="128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6"/>
              <p:cNvSpPr/>
              <p:nvPr/>
            </p:nvSpPr>
            <p:spPr>
              <a:xfrm rot="1494000">
                <a:off x="4330440" y="2841480"/>
                <a:ext cx="88560" cy="81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7"/>
              <p:cNvSpPr/>
              <p:nvPr/>
            </p:nvSpPr>
            <p:spPr>
              <a:xfrm rot="2358000">
                <a:off x="4964040" y="285228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8"/>
              <p:cNvSpPr/>
              <p:nvPr/>
            </p:nvSpPr>
            <p:spPr>
              <a:xfrm rot="2358000">
                <a:off x="4927320" y="269388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9"/>
              <p:cNvSpPr/>
              <p:nvPr/>
            </p:nvSpPr>
            <p:spPr>
              <a:xfrm rot="2358000">
                <a:off x="4765320" y="315576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0"/>
              <p:cNvSpPr/>
              <p:nvPr/>
            </p:nvSpPr>
            <p:spPr>
              <a:xfrm rot="4289400">
                <a:off x="3951000" y="367992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Rectangle 6"/>
            <p:cNvSpPr/>
            <p:nvPr/>
          </p:nvSpPr>
          <p:spPr>
            <a:xfrm>
              <a:off x="4349880" y="920880"/>
              <a:ext cx="1419120" cy="170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Straight Arrow Connector 24"/>
          <p:cNvCxnSpPr/>
          <p:nvPr/>
        </p:nvCxnSpPr>
        <p:spPr>
          <a:xfrm flipV="1">
            <a:off x="1257480" y="1993680"/>
            <a:ext cx="1296000" cy="256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25"/>
          <p:cNvSpPr/>
          <p:nvPr/>
        </p:nvSpPr>
        <p:spPr>
          <a:xfrm>
            <a:off x="635040" y="3695760"/>
            <a:ext cx="123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Arial"/>
              </a:rPr>
              <a:t>ER1(18-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0000"/>
                </a:solidFill>
                <a:latin typeface="Arial"/>
              </a:rPr>
              <a:t>Methylation profiling of Melan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26"/>
          <p:cNvCxnSpPr/>
          <p:nvPr/>
        </p:nvCxnSpPr>
        <p:spPr>
          <a:xfrm>
            <a:off x="3683160" y="2324160"/>
            <a:ext cx="915120" cy="2147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5" name="Straight Arrow Connector 32"/>
          <p:cNvCxnSpPr/>
          <p:nvPr/>
        </p:nvCxnSpPr>
        <p:spPr>
          <a:xfrm>
            <a:off x="3835440" y="2323800"/>
            <a:ext cx="940320" cy="213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cxnSp>
        <p:nvCxnSpPr>
          <p:cNvPr id="336" name="Straight Arrow Connector 33"/>
          <p:cNvCxnSpPr>
            <a:endCxn id="323" idx="1"/>
          </p:cNvCxnSpPr>
          <p:nvPr/>
        </p:nvCxnSpPr>
        <p:spPr>
          <a:xfrm>
            <a:off x="3962520" y="2222280"/>
            <a:ext cx="2629440" cy="2135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cxnSp>
        <p:nvCxnSpPr>
          <p:cNvPr id="337" name="Straight Arrow Connector 36"/>
          <p:cNvCxnSpPr/>
          <p:nvPr/>
        </p:nvCxnSpPr>
        <p:spPr>
          <a:xfrm>
            <a:off x="3327480" y="2336400"/>
            <a:ext cx="25920" cy="215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b2d1f"/>
                </a:solidFill>
                <a:latin typeface="Arial"/>
                <a:ea typeface="Arial"/>
              </a:rPr>
              <a:t>Time-L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cxnSp>
        <p:nvCxnSpPr>
          <p:cNvPr id="339" name="Straight Arrow Connector 8"/>
          <p:cNvCxnSpPr/>
          <p:nvPr/>
        </p:nvCxnSpPr>
        <p:spPr>
          <a:xfrm>
            <a:off x="304920" y="4130280"/>
            <a:ext cx="8031600" cy="252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triangle" w="med"/>
          </a:ln>
        </p:spPr>
      </p:cxnSp>
      <p:grpSp>
        <p:nvGrpSpPr>
          <p:cNvPr id="340" name="Group 32"/>
          <p:cNvGrpSpPr/>
          <p:nvPr/>
        </p:nvGrpSpPr>
        <p:grpSpPr>
          <a:xfrm>
            <a:off x="92160" y="2041560"/>
            <a:ext cx="1614240" cy="2089080"/>
            <a:chOff x="92160" y="2041560"/>
            <a:chExt cx="1614240" cy="2089080"/>
          </a:xfrm>
        </p:grpSpPr>
        <p:cxnSp>
          <p:nvCxnSpPr>
            <p:cNvPr id="341" name="Straight Arrow Connector 10"/>
            <p:cNvCxnSpPr/>
            <p:nvPr/>
          </p:nvCxnSpPr>
          <p:spPr>
            <a:xfrm flipH="1">
              <a:off x="304200" y="3266640"/>
              <a:ext cx="2160" cy="864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  <p:sp>
          <p:nvSpPr>
            <p:cNvPr id="342" name="TextBox 11"/>
            <p:cNvSpPr/>
            <p:nvPr/>
          </p:nvSpPr>
          <p:spPr>
            <a:xfrm>
              <a:off x="92160" y="2041560"/>
              <a:ext cx="1614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c 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iti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tact with Part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3"/>
          <p:cNvGrpSpPr/>
          <p:nvPr/>
        </p:nvGrpSpPr>
        <p:grpSpPr>
          <a:xfrm>
            <a:off x="469080" y="4176000"/>
            <a:ext cx="1354320" cy="1235160"/>
            <a:chOff x="469080" y="4176000"/>
            <a:chExt cx="1354320" cy="1235160"/>
          </a:xfrm>
        </p:grpSpPr>
        <p:sp>
          <p:nvSpPr>
            <p:cNvPr id="344" name="TextBox 12"/>
            <p:cNvSpPr/>
            <p:nvPr/>
          </p:nvSpPr>
          <p:spPr>
            <a:xfrm>
              <a:off x="469080" y="4830480"/>
              <a:ext cx="135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an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rst me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Straight Arrow Connector 13"/>
            <p:cNvCxnSpPr/>
            <p:nvPr/>
          </p:nvCxnSpPr>
          <p:spPr>
            <a:xfrm flipH="1" flipV="1">
              <a:off x="942480" y="4176000"/>
              <a:ext cx="2160" cy="7009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46" name="Group 34"/>
          <p:cNvGrpSpPr/>
          <p:nvPr/>
        </p:nvGrpSpPr>
        <p:grpSpPr>
          <a:xfrm>
            <a:off x="1398600" y="2560680"/>
            <a:ext cx="1690560" cy="1569960"/>
            <a:chOff x="1398600" y="2560680"/>
            <a:chExt cx="1690560" cy="1569960"/>
          </a:xfrm>
        </p:grpSpPr>
        <p:sp>
          <p:nvSpPr>
            <p:cNvPr id="347" name="TextBox 14"/>
            <p:cNvSpPr/>
            <p:nvPr/>
          </p:nvSpPr>
          <p:spPr>
            <a:xfrm>
              <a:off x="1398600" y="2560680"/>
              <a:ext cx="1690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eb/Mar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draft &amp; feedb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5"/>
            <p:cNvCxnSpPr/>
            <p:nvPr/>
          </p:nvCxnSpPr>
          <p:spPr>
            <a:xfrm flipH="1">
              <a:off x="1690200" y="3458880"/>
              <a:ext cx="216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49" name="Group 35"/>
          <p:cNvGrpSpPr/>
          <p:nvPr/>
        </p:nvGrpSpPr>
        <p:grpSpPr>
          <a:xfrm>
            <a:off x="1932120" y="4160160"/>
            <a:ext cx="1508040" cy="1479240"/>
            <a:chOff x="1932120" y="4160160"/>
            <a:chExt cx="1508040" cy="1479240"/>
          </a:xfrm>
        </p:grpSpPr>
        <p:sp>
          <p:nvSpPr>
            <p:cNvPr id="350" name="TextBox 23"/>
            <p:cNvSpPr/>
            <p:nvPr/>
          </p:nvSpPr>
          <p:spPr>
            <a:xfrm>
              <a:off x="1932120" y="4815360"/>
              <a:ext cx="150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r 25th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bmit full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24"/>
            <p:cNvCxnSpPr/>
            <p:nvPr/>
          </p:nvCxnSpPr>
          <p:spPr>
            <a:xfrm flipH="1" flipV="1">
              <a:off x="2422080" y="416016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2" name="Group 36"/>
          <p:cNvGrpSpPr/>
          <p:nvPr/>
        </p:nvGrpSpPr>
        <p:grpSpPr>
          <a:xfrm>
            <a:off x="2732040" y="2041560"/>
            <a:ext cx="1646280" cy="2074680"/>
            <a:chOff x="2732040" y="2041560"/>
            <a:chExt cx="1646280" cy="2074680"/>
          </a:xfrm>
        </p:grpSpPr>
        <p:sp>
          <p:nvSpPr>
            <p:cNvPr id="353" name="TextBox 25"/>
            <p:cNvSpPr/>
            <p:nvPr/>
          </p:nvSpPr>
          <p:spPr>
            <a:xfrm>
              <a:off x="2732040" y="2041560"/>
              <a:ext cx="1646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uly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ults: On reserve 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ife 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ver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26"/>
            <p:cNvCxnSpPr/>
            <p:nvPr/>
          </p:nvCxnSpPr>
          <p:spPr>
            <a:xfrm flipH="1">
              <a:off x="3138120" y="3444480"/>
              <a:ext cx="216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5" name="Group 37"/>
          <p:cNvGrpSpPr/>
          <p:nvPr/>
        </p:nvGrpSpPr>
        <p:grpSpPr>
          <a:xfrm>
            <a:off x="3398760" y="4176000"/>
            <a:ext cx="2300400" cy="1479240"/>
            <a:chOff x="3398760" y="4176000"/>
            <a:chExt cx="2300400" cy="1479240"/>
          </a:xfrm>
        </p:grpSpPr>
        <p:sp>
          <p:nvSpPr>
            <p:cNvPr id="356" name="TextBox 27"/>
            <p:cNvSpPr/>
            <p:nvPr/>
          </p:nvSpPr>
          <p:spPr>
            <a:xfrm>
              <a:off x="3398760" y="4831200"/>
              <a:ext cx="23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ov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ife 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ver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7" name="Straight Arrow Connector 28"/>
            <p:cNvCxnSpPr/>
            <p:nvPr/>
          </p:nvCxnSpPr>
          <p:spPr>
            <a:xfrm flipH="1" flipV="1">
              <a:off x="383976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58" name="Group 38"/>
          <p:cNvGrpSpPr/>
          <p:nvPr/>
        </p:nvGrpSpPr>
        <p:grpSpPr>
          <a:xfrm>
            <a:off x="4095720" y="2514600"/>
            <a:ext cx="1540080" cy="1585800"/>
            <a:chOff x="4095720" y="2514600"/>
            <a:chExt cx="1540080" cy="1585800"/>
          </a:xfrm>
        </p:grpSpPr>
        <p:sp>
          <p:nvSpPr>
            <p:cNvPr id="359" name="TextBox 30"/>
            <p:cNvSpPr/>
            <p:nvPr/>
          </p:nvSpPr>
          <p:spPr>
            <a:xfrm>
              <a:off x="4095720" y="2514600"/>
              <a:ext cx="154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 Dec 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vitation to negoti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Straight Arrow Connector 31"/>
            <p:cNvCxnSpPr/>
            <p:nvPr/>
          </p:nvCxnSpPr>
          <p:spPr>
            <a:xfrm flipH="1">
              <a:off x="4571280" y="342864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1" name="Group 40"/>
          <p:cNvGrpSpPr/>
          <p:nvPr/>
        </p:nvGrpSpPr>
        <p:grpSpPr>
          <a:xfrm>
            <a:off x="4675320" y="4191840"/>
            <a:ext cx="1904760" cy="1676520"/>
            <a:chOff x="4675320" y="4191840"/>
            <a:chExt cx="1904760" cy="1676520"/>
          </a:xfrm>
        </p:grpSpPr>
        <p:sp>
          <p:nvSpPr>
            <p:cNvPr id="362" name="TextBox 41"/>
            <p:cNvSpPr/>
            <p:nvPr/>
          </p:nvSpPr>
          <p:spPr>
            <a:xfrm>
              <a:off x="4675320" y="4800960"/>
              <a:ext cx="1904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an/Feb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nnex1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antt Chart &amp; GF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3" name="Straight Arrow Connector 42"/>
            <p:cNvCxnSpPr/>
            <p:nvPr/>
          </p:nvCxnSpPr>
          <p:spPr>
            <a:xfrm flipH="1" flipV="1">
              <a:off x="5257440" y="4191840"/>
              <a:ext cx="2160" cy="7009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4" name="Group 44"/>
          <p:cNvGrpSpPr/>
          <p:nvPr/>
        </p:nvGrpSpPr>
        <p:grpSpPr>
          <a:xfrm>
            <a:off x="5459400" y="2517840"/>
            <a:ext cx="1905120" cy="1598400"/>
            <a:chOff x="5459400" y="2517840"/>
            <a:chExt cx="1905120" cy="1598400"/>
          </a:xfrm>
        </p:grpSpPr>
        <p:sp>
          <p:nvSpPr>
            <p:cNvPr id="365" name="TextBox 45"/>
            <p:cNvSpPr/>
            <p:nvPr/>
          </p:nvSpPr>
          <p:spPr>
            <a:xfrm>
              <a:off x="5459400" y="2517840"/>
              <a:ext cx="190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eb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gotiate with Commiss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46"/>
            <p:cNvCxnSpPr/>
            <p:nvPr/>
          </p:nvCxnSpPr>
          <p:spPr>
            <a:xfrm flipH="1">
              <a:off x="6003000" y="344448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67" name="Group 48"/>
          <p:cNvGrpSpPr/>
          <p:nvPr/>
        </p:nvGrpSpPr>
        <p:grpSpPr>
          <a:xfrm>
            <a:off x="6183360" y="4176000"/>
            <a:ext cx="1905120" cy="1692360"/>
            <a:chOff x="6183360" y="4176000"/>
            <a:chExt cx="1905120" cy="1692360"/>
          </a:xfrm>
        </p:grpSpPr>
        <p:sp>
          <p:nvSpPr>
            <p:cNvPr id="368" name="TextBox 49"/>
            <p:cNvSpPr/>
            <p:nvPr/>
          </p:nvSpPr>
          <p:spPr>
            <a:xfrm>
              <a:off x="6183360" y="4800960"/>
              <a:ext cx="1905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June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ra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re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50"/>
            <p:cNvCxnSpPr/>
            <p:nvPr/>
          </p:nvCxnSpPr>
          <p:spPr>
            <a:xfrm flipH="1" flipV="1">
              <a:off x="671940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70" name="Group 44"/>
          <p:cNvGrpSpPr/>
          <p:nvPr/>
        </p:nvGrpSpPr>
        <p:grpSpPr>
          <a:xfrm>
            <a:off x="6988320" y="2498760"/>
            <a:ext cx="1904760" cy="1617480"/>
            <a:chOff x="6988320" y="2498760"/>
            <a:chExt cx="1904760" cy="1617480"/>
          </a:xfrm>
        </p:grpSpPr>
        <p:sp>
          <p:nvSpPr>
            <p:cNvPr id="371" name="TextBox 45"/>
            <p:cNvSpPr/>
            <p:nvPr/>
          </p:nvSpPr>
          <p:spPr>
            <a:xfrm>
              <a:off x="6988320" y="2498760"/>
              <a:ext cx="190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ug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rt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37"/>
            <p:cNvCxnSpPr/>
            <p:nvPr/>
          </p:nvCxnSpPr>
          <p:spPr>
            <a:xfrm flipH="1">
              <a:off x="7322400" y="3444480"/>
              <a:ext cx="1080" cy="67212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373" name="Group 48"/>
          <p:cNvGrpSpPr/>
          <p:nvPr/>
        </p:nvGrpSpPr>
        <p:grpSpPr>
          <a:xfrm>
            <a:off x="7429680" y="4176000"/>
            <a:ext cx="1904760" cy="1204920"/>
            <a:chOff x="7429680" y="4176000"/>
            <a:chExt cx="1904760" cy="1204920"/>
          </a:xfrm>
        </p:grpSpPr>
        <p:sp>
          <p:nvSpPr>
            <p:cNvPr id="374" name="TextBox 49"/>
            <p:cNvSpPr/>
            <p:nvPr/>
          </p:nvSpPr>
          <p:spPr>
            <a:xfrm>
              <a:off x="7429680" y="48002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ct  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ick Off meeting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Straight Arrow Connector 39"/>
            <p:cNvCxnSpPr/>
            <p:nvPr/>
          </p:nvCxnSpPr>
          <p:spPr>
            <a:xfrm flipH="1" flipV="1">
              <a:off x="7775280" y="4176000"/>
              <a:ext cx="2160" cy="702360"/>
            </a:xfrm>
            <a:prstGeom prst="straightConnector1">
              <a:avLst/>
            </a:prstGeom>
            <a:ln w="28440">
              <a:solidFill>
                <a:srgbClr val="af340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Arial"/>
                <a:ea typeface="Arial"/>
              </a:rPr>
              <a:t>Lessons Learned and Comments - II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6840" y="1127160"/>
            <a:ext cx="861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iver was indeed key; in this case, Dr. Mairin Rafferty (formerly Senior Research Fellow in UCD; now Chief Operations Officer in OncoMark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ed complete buy-in from prospective partners – interactions need to make sen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mplate information forms can facilitate retrieval of necessary data from prospective partn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ferable to keep number of partners to a modest level for this programme; can be complex to arrange second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ful mechanism to progress spin-out activities (e.g. OncoMark) and create new product opportunit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ce-to-face meetings, preferably as a group, are highly recommended – people need time to bed down concepts/format of gra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3"/>
          <p:cNvGrpSpPr/>
          <p:nvPr/>
        </p:nvGrpSpPr>
        <p:grpSpPr>
          <a:xfrm>
            <a:off x="1500120" y="1393920"/>
            <a:ext cx="6048360" cy="5040360"/>
            <a:chOff x="1500120" y="1393920"/>
            <a:chExt cx="6048360" cy="5040360"/>
          </a:xfrm>
        </p:grpSpPr>
        <p:grpSp>
          <p:nvGrpSpPr>
            <p:cNvPr id="380" name="Group 31"/>
            <p:cNvGrpSpPr/>
            <p:nvPr/>
          </p:nvGrpSpPr>
          <p:grpSpPr>
            <a:xfrm>
              <a:off x="1500120" y="1393920"/>
              <a:ext cx="6048360" cy="5040360"/>
              <a:chOff x="1500120" y="1393920"/>
              <a:chExt cx="6048360" cy="5040360"/>
            </a:xfrm>
          </p:grpSpPr>
          <p:sp>
            <p:nvSpPr>
              <p:cNvPr id="381" name="TextBox 7"/>
              <p:cNvSpPr/>
              <p:nvPr/>
            </p:nvSpPr>
            <p:spPr>
              <a:xfrm>
                <a:off x="4212000" y="3339360"/>
                <a:ext cx="129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Produc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2" name="Picture 2" descr=""/>
              <p:cNvPicPr/>
              <p:nvPr/>
            </p:nvPicPr>
            <p:blipFill>
              <a:blip r:embed="rId1"/>
              <a:srcRect l="23355" t="3136" r="23355" b="13548"/>
              <a:stretch/>
            </p:blipFill>
            <p:spPr>
              <a:xfrm>
                <a:off x="2913840" y="2404440"/>
                <a:ext cx="3207240" cy="302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Char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0120" y="1393920"/>
                <a:ext cx="604836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TextBox 10"/>
              <p:cNvSpPr/>
              <p:nvPr/>
            </p:nvSpPr>
            <p:spPr>
              <a:xfrm>
                <a:off x="3910680" y="4358880"/>
                <a:ext cx="121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Box 11"/>
              <p:cNvSpPr/>
              <p:nvPr/>
            </p:nvSpPr>
            <p:spPr>
              <a:xfrm>
                <a:off x="3661200" y="33634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R+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Straight Connector 12"/>
              <p:cNvSpPr/>
              <p:nvPr/>
            </p:nvSpPr>
            <p:spPr>
              <a:xfrm>
                <a:off x="4503960" y="1546560"/>
                <a:ext cx="4680" cy="23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13"/>
              <p:cNvSpPr/>
              <p:nvPr/>
            </p:nvSpPr>
            <p:spPr>
              <a:xfrm flipV="1">
                <a:off x="2455920" y="3910320"/>
                <a:ext cx="2069280" cy="120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Straight Connector 14"/>
              <p:cNvSpPr/>
              <p:nvPr/>
            </p:nvSpPr>
            <p:spPr>
              <a:xfrm flipH="1" flipV="1">
                <a:off x="4541400" y="3916800"/>
                <a:ext cx="2037600" cy="11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15"/>
              <p:cNvSpPr/>
              <p:nvPr/>
            </p:nvSpPr>
            <p:spPr>
              <a:xfrm rot="3235800">
                <a:off x="4499640" y="3302640"/>
                <a:ext cx="129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alibri"/>
                  </a:rPr>
                  <a:t>Produc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6"/>
            <p:cNvSpPr/>
            <p:nvPr/>
          </p:nvSpPr>
          <p:spPr>
            <a:xfrm rot="19422600">
              <a:off x="5353920" y="263700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Calibri"/>
                </a:rPr>
                <a:t>IHC-M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16"/>
          <p:cNvSpPr/>
          <p:nvPr/>
        </p:nvSpPr>
        <p:spPr>
          <a:xfrm rot="4309800">
            <a:off x="3480840" y="20458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R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7"/>
          <p:cNvSpPr/>
          <p:nvPr/>
        </p:nvSpPr>
        <p:spPr>
          <a:xfrm rot="1957200">
            <a:off x="2531160" y="28494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ngiot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8"/>
          <p:cNvSpPr/>
          <p:nvPr/>
        </p:nvSpPr>
        <p:spPr>
          <a:xfrm>
            <a:off x="2219400" y="38527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Mela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9"/>
          <p:cNvSpPr/>
          <p:nvPr/>
        </p:nvSpPr>
        <p:spPr>
          <a:xfrm rot="18772800">
            <a:off x="2580480" y="4830480"/>
            <a:ext cx="12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"/>
          <p:cNvSpPr/>
          <p:nvPr/>
        </p:nvSpPr>
        <p:spPr>
          <a:xfrm rot="17671200">
            <a:off x="3314520" y="527364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l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1"/>
          <p:cNvSpPr/>
          <p:nvPr/>
        </p:nvSpPr>
        <p:spPr>
          <a:xfrm rot="16200000">
            <a:off x="3994200" y="5381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utom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2"/>
          <p:cNvSpPr/>
          <p:nvPr/>
        </p:nvSpPr>
        <p:spPr>
          <a:xfrm rot="14575800">
            <a:off x="4676760" y="519804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Pre-clin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 rot="13430400">
            <a:off x="5221440" y="4833360"/>
            <a:ext cx="12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FP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0"/>
          <p:cNvSpPr/>
          <p:nvPr/>
        </p:nvSpPr>
        <p:spPr>
          <a:xfrm>
            <a:off x="1949400" y="1417680"/>
            <a:ext cx="5089680" cy="5013360"/>
          </a:xfrm>
          <a:prstGeom prst="ellipse">
            <a:avLst/>
          </a:prstGeom>
          <a:noFill/>
          <a:ln w="9360">
            <a:solidFill>
              <a:srgbClr val="337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2"/>
          <p:cNvSpPr/>
          <p:nvPr/>
        </p:nvSpPr>
        <p:spPr>
          <a:xfrm flipH="1" flipV="1">
            <a:off x="2924280" y="2073240"/>
            <a:ext cx="822240" cy="914400"/>
          </a:xfrm>
          <a:prstGeom prst="line">
            <a:avLst/>
          </a:prstGeom>
          <a:ln w="9360">
            <a:solidFill>
              <a:srgbClr val="337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3"/>
          <a:stretch/>
        </p:blipFill>
        <p:spPr>
          <a:xfrm>
            <a:off x="272880" y="4206960"/>
            <a:ext cx="1586160" cy="2224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mairin"/>
          <p:cNvPicPr/>
          <p:nvPr/>
        </p:nvPicPr>
        <p:blipFill>
          <a:blip r:embed="rId4"/>
          <a:stretch/>
        </p:blipFill>
        <p:spPr>
          <a:xfrm>
            <a:off x="7108920" y="220680"/>
            <a:ext cx="1806480" cy="21495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7"/>
          <p:cNvSpPr/>
          <p:nvPr/>
        </p:nvSpPr>
        <p:spPr>
          <a:xfrm>
            <a:off x="134640" y="64134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Mr. Stephen Pen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8"/>
          <p:cNvSpPr/>
          <p:nvPr/>
        </p:nvSpPr>
        <p:spPr>
          <a:xfrm>
            <a:off x="7151400" y="24433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Dr. Mairin Raff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470320" y="209520"/>
            <a:ext cx="74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cc"/>
                </a:solidFill>
                <a:latin typeface="Calibri"/>
              </a:rPr>
              <a:t>Curr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5"/>
          <a:srcRect l="14509" t="14690" r="62650" b="72190"/>
          <a:stretch/>
        </p:blipFill>
        <p:spPr>
          <a:xfrm>
            <a:off x="318960" y="789120"/>
            <a:ext cx="2830680" cy="914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5" descr="N100270383.jpg"/>
          <p:cNvPicPr/>
          <p:nvPr/>
        </p:nvPicPr>
        <p:blipFill>
          <a:blip r:embed="rId6"/>
          <a:stretch/>
        </p:blipFill>
        <p:spPr>
          <a:xfrm>
            <a:off x="7126200" y="3654360"/>
            <a:ext cx="1854360" cy="2778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8"/>
          <p:cNvSpPr/>
          <p:nvPr/>
        </p:nvSpPr>
        <p:spPr>
          <a:xfrm>
            <a:off x="7156080" y="64404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Dr. Dara FitzGera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89000" y="1619280"/>
            <a:ext cx="4403520" cy="4471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131080" y="4491000"/>
            <a:ext cx="3501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b2d1f"/>
                </a:solidFill>
                <a:latin typeface="Arial"/>
              </a:rPr>
              <a:t>Intravital Micros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b2d1f"/>
                </a:solidFill>
                <a:latin typeface="Arial"/>
              </a:rPr>
              <a:t>HT1080 fibrosarcoma tumou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b2d1f"/>
                </a:solidFill>
                <a:latin typeface="Arial"/>
              </a:rPr>
              <a:t>Courtesy of Prof. Robert Hoff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b2d1f"/>
                </a:solidFill>
                <a:latin typeface="Arial"/>
              </a:rPr>
              <a:t>(Anti-Cancer In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1"/>
          <p:cNvSpPr/>
          <p:nvPr/>
        </p:nvSpPr>
        <p:spPr>
          <a:xfrm>
            <a:off x="1235160" y="469800"/>
            <a:ext cx="646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b2d1f"/>
                </a:solidFill>
                <a:latin typeface="Arial"/>
              </a:rPr>
              <a:t>Tumour Growth and Sp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pic>
        <p:nvPicPr>
          <p:cNvPr id="246" name="HT1080movie12.mpg" descr=""/>
          <p:cNvPicPr/>
          <p:nvPr/>
        </p:nvPicPr>
        <p:blipFill>
          <a:blip r:embed="rId3"/>
          <a:stretch/>
        </p:blipFill>
        <p:spPr>
          <a:xfrm>
            <a:off x="4827600" y="1395360"/>
            <a:ext cx="3954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0" descr="Biomarkers1"/>
          <p:cNvPicPr/>
          <p:nvPr/>
        </p:nvPicPr>
        <p:blipFill>
          <a:blip r:embed="rId1"/>
          <a:stretch/>
        </p:blipFill>
        <p:spPr>
          <a:xfrm>
            <a:off x="689040" y="1522440"/>
            <a:ext cx="7785000" cy="4441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613800" y="611280"/>
            <a:ext cx="81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b2d1f"/>
                </a:solidFill>
                <a:latin typeface="Arial"/>
              </a:rPr>
              <a:t>Biomarkers in Canc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3124080" y="6248520"/>
            <a:ext cx="28958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354-8DA3-4FA6-8CD6-759878BFEE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-1482840" y="0"/>
            <a:ext cx="9555120" cy="6215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-642960" y="5929200"/>
            <a:ext cx="10572840" cy="9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-2571840" y="-1214280"/>
            <a:ext cx="3000600" cy="807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5929200" y="0"/>
            <a:ext cx="371484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-1071720" y="0"/>
            <a:ext cx="11072880" cy="1285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2320" y="0"/>
            <a:ext cx="8429400" cy="130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b2d1f"/>
                </a:solidFill>
                <a:latin typeface="Arial"/>
                <a:ea typeface="Arial"/>
              </a:rPr>
              <a:t>Target-Breast: Marie Curie Industry-Academia Partnership ToK Programme (FP6)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904000" y="2028960"/>
            <a:ext cx="32400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academic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und 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industri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lide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e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47628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buClr>
                <a:srgbClr val="3366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converting omic datasets into clinically relevant as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294680" y="1157400"/>
            <a:ext cx="1063440" cy="350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partner2.gif"/>
          <p:cNvPicPr/>
          <p:nvPr/>
        </p:nvPicPr>
        <p:blipFill>
          <a:blip r:embed="rId3"/>
          <a:stretch/>
        </p:blipFill>
        <p:spPr>
          <a:xfrm>
            <a:off x="7292880" y="1503360"/>
            <a:ext cx="1068480" cy="357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326400" y="5985000"/>
            <a:ext cx="3213360" cy="459720"/>
          </a:xfrm>
          <a:prstGeom prst="rect">
            <a:avLst/>
          </a:prstGeom>
          <a:solidFill>
            <a:srgbClr val="e89421"/>
          </a:solidFill>
          <a:ln w="9360">
            <a:solidFill>
              <a:srgbClr val="f3a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targetbreas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017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b2d1f"/>
                </a:solidFill>
                <a:latin typeface="Arial"/>
                <a:ea typeface="Arial"/>
              </a:rPr>
              <a:t>Lessons Learned and Comments - I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8080" y="1041480"/>
            <a:ext cx="861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e was of considerable value to consolidate and strengthen pre-existing/new industry-academic interac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d great opportunities for advanced training of researchers in different sec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of programme complex, with reporting process difficult in parts (e.g. ambiguous nature of online versus hard copy submissions, EC timeline for sign-off of Annual report – delay of fund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rnover of contact staff at EC (now REA) appears to be quite high; therefore, difficult to maintain relationshi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recruit good candidates for exchanges: ‘best laid plans!’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for proposal preparation was key to drive process (Enterprise Ireland), as well as feedback/advice from Marie Curie/FP contact points (Dagmar Meyer/Caitriona Creely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ful to complement with other large-scale national (HRB Programme Grant, SFI Cluster Grant) and international (EU IAPP and Collaborative grant) initi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ed to identify key driver in the process for next initia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25380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b2d1f"/>
                </a:solidFill>
                <a:latin typeface="Arial"/>
                <a:ea typeface="Arial"/>
              </a:rPr>
              <a:t>Marie Curie Industry Academia Partnership and Pathways Programme (FP7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789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ronym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rget-Melano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Dissection of Melanoma Progression: An Integrated Pan-European Approac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 Partner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 partners (4 SMEs, 5 Academic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artner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 partners (2 SMEs, 5 academic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73 M eu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20"/>
          <p:cNvGrpSpPr/>
          <p:nvPr/>
        </p:nvGrpSpPr>
        <p:grpSpPr>
          <a:xfrm>
            <a:off x="-630360" y="1533600"/>
            <a:ext cx="9506160" cy="5056200"/>
            <a:chOff x="-630360" y="1533600"/>
            <a:chExt cx="9506160" cy="5056200"/>
          </a:xfrm>
        </p:grpSpPr>
        <p:sp>
          <p:nvSpPr>
            <p:cNvPr id="269" name="Rectangle 5"/>
            <p:cNvSpPr/>
            <p:nvPr/>
          </p:nvSpPr>
          <p:spPr>
            <a:xfrm>
              <a:off x="290160" y="1533600"/>
              <a:ext cx="8585640" cy="505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6"/>
            <p:cNvGrpSpPr/>
            <p:nvPr/>
          </p:nvGrpSpPr>
          <p:grpSpPr>
            <a:xfrm>
              <a:off x="-630360" y="1560600"/>
              <a:ext cx="8820720" cy="5029200"/>
              <a:chOff x="-630360" y="1560600"/>
              <a:chExt cx="8820720" cy="5029200"/>
            </a:xfrm>
          </p:grpSpPr>
          <p:pic>
            <p:nvPicPr>
              <p:cNvPr id="271" name="Picture 23" descr="Slide1"/>
              <p:cNvPicPr/>
              <p:nvPr/>
            </p:nvPicPr>
            <p:blipFill>
              <a:blip r:embed="rId2"/>
              <a:srcRect l="2307" t="7848" r="6216" b="39585"/>
              <a:stretch/>
            </p:blipFill>
            <p:spPr>
              <a:xfrm>
                <a:off x="490680" y="3300480"/>
                <a:ext cx="7699680" cy="328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Rectangle 8"/>
              <p:cNvSpPr/>
              <p:nvPr/>
            </p:nvSpPr>
            <p:spPr>
              <a:xfrm>
                <a:off x="996840" y="1662480"/>
                <a:ext cx="7110720" cy="15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451"/>
                  </a:spcBef>
                  <a:buClr>
                    <a:srgbClr val="0019a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One of the fastest rising cancer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Poor prognosis for advanced diseas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Current therapeutic strategies modestly successfu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4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Insight into molecular basis of this disease is lack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"/>
              <p:cNvSpPr/>
              <p:nvPr/>
            </p:nvSpPr>
            <p:spPr>
              <a:xfrm>
                <a:off x="-630360" y="1560600"/>
                <a:ext cx="794268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Franklin Gothic Book"/>
                  </a:rPr>
                  <a:t>Why TARGET-MELANOMA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4"/>
          <p:cNvSpPr/>
          <p:nvPr/>
        </p:nvSpPr>
        <p:spPr>
          <a:xfrm>
            <a:off x="642960" y="3800520"/>
            <a:ext cx="785808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232840" y="5753160"/>
            <a:ext cx="563400" cy="772920"/>
          </a:xfrm>
          <a:prstGeom prst="rect">
            <a:avLst/>
          </a:prstGeom>
          <a:ln w="0">
            <a:noFill/>
          </a:ln>
        </p:spPr>
      </p:pic>
      <p:sp>
        <p:nvSpPr>
          <p:cNvPr id="276" name="Title 1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b2d1f"/>
                </a:solidFill>
                <a:latin typeface="Arial"/>
              </a:rPr>
              <a:t>Part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401480"/>
            <a:ext cx="7772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C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Ireland (Coordinator)                      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aastric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Netherlan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Leu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elgi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DIBE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arcelona, Spai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Upsalla, HP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Swed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oMethyl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elgu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lidepa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DCU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elli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St.James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oMa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UCD, Irela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extBox 5"/>
          <p:cNvSpPr/>
          <p:nvPr/>
        </p:nvSpPr>
        <p:spPr>
          <a:xfrm rot="16200000">
            <a:off x="-686160" y="22442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 rot="16200000">
            <a:off x="-163080" y="483336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3"/>
          <p:cNvGrpSpPr/>
          <p:nvPr/>
        </p:nvGrpSpPr>
        <p:grpSpPr>
          <a:xfrm>
            <a:off x="1432080" y="4281480"/>
            <a:ext cx="3520800" cy="488880"/>
            <a:chOff x="1432080" y="4281480"/>
            <a:chExt cx="3520800" cy="488880"/>
          </a:xfrm>
        </p:grpSpPr>
        <p:sp>
          <p:nvSpPr>
            <p:cNvPr id="281" name="Straight Connector 25"/>
            <p:cNvSpPr/>
            <p:nvPr/>
          </p:nvSpPr>
          <p:spPr>
            <a:xfrm>
              <a:off x="1432080" y="4770360"/>
              <a:ext cx="3504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26"/>
            <p:cNvSpPr/>
            <p:nvPr/>
          </p:nvSpPr>
          <p:spPr>
            <a:xfrm>
              <a:off x="1447920" y="4281480"/>
              <a:ext cx="3504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0"/>
          <p:cNvGrpSpPr/>
          <p:nvPr/>
        </p:nvGrpSpPr>
        <p:grpSpPr>
          <a:xfrm>
            <a:off x="198360" y="593640"/>
            <a:ext cx="8670960" cy="5730840"/>
            <a:chOff x="198360" y="593640"/>
            <a:chExt cx="8670960" cy="5730840"/>
          </a:xfrm>
        </p:grpSpPr>
        <p:pic>
          <p:nvPicPr>
            <p:cNvPr id="284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8360" y="59364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6"/>
            <p:cNvGrpSpPr/>
            <p:nvPr/>
          </p:nvGrpSpPr>
          <p:grpSpPr>
            <a:xfrm>
              <a:off x="3566520" y="5385960"/>
              <a:ext cx="1434600" cy="510840"/>
              <a:chOff x="3566520" y="5385960"/>
              <a:chExt cx="1434600" cy="51084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3566520" y="538596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"/>
              <p:cNvSpPr/>
              <p:nvPr/>
            </p:nvSpPr>
            <p:spPr>
              <a:xfrm>
                <a:off x="3637440" y="545400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10"/>
          <p:cNvGrpSpPr/>
          <p:nvPr/>
        </p:nvGrpSpPr>
        <p:grpSpPr>
          <a:xfrm>
            <a:off x="193680" y="604800"/>
            <a:ext cx="8670960" cy="5730840"/>
            <a:chOff x="193680" y="604800"/>
            <a:chExt cx="8670960" cy="573084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rcRect l="16385" t="28233" r="16523" b="9208"/>
            <a:stretch/>
          </p:blipFill>
          <p:spPr>
            <a:xfrm>
              <a:off x="193680" y="604800"/>
              <a:ext cx="8670960" cy="57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0" name="Group 6"/>
            <p:cNvGrpSpPr/>
            <p:nvPr/>
          </p:nvGrpSpPr>
          <p:grpSpPr>
            <a:xfrm>
              <a:off x="3561840" y="5397120"/>
              <a:ext cx="1434600" cy="510840"/>
              <a:chOff x="3561840" y="5397120"/>
              <a:chExt cx="1434600" cy="510840"/>
            </a:xfrm>
          </p:grpSpPr>
          <p:sp>
            <p:nvSpPr>
              <p:cNvPr id="291" name="Rectangle 7"/>
              <p:cNvSpPr/>
              <p:nvPr/>
            </p:nvSpPr>
            <p:spPr>
              <a:xfrm>
                <a:off x="3561840" y="5397120"/>
                <a:ext cx="1292760" cy="510840"/>
              </a:xfrm>
              <a:prstGeom prst="rect">
                <a:avLst/>
              </a:prstGeom>
              <a:solidFill>
                <a:srgbClr val="d8d8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3632760" y="5465160"/>
                <a:ext cx="136368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UV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23"/>
          <p:cNvGrpSpPr/>
          <p:nvPr/>
        </p:nvGrpSpPr>
        <p:grpSpPr>
          <a:xfrm>
            <a:off x="295200" y="920880"/>
            <a:ext cx="6867720" cy="3682080"/>
            <a:chOff x="295200" y="920880"/>
            <a:chExt cx="6867720" cy="3682080"/>
          </a:xfrm>
        </p:grpSpPr>
        <p:grpSp>
          <p:nvGrpSpPr>
            <p:cNvPr id="294" name="Group 22"/>
            <p:cNvGrpSpPr/>
            <p:nvPr/>
          </p:nvGrpSpPr>
          <p:grpSpPr>
            <a:xfrm>
              <a:off x="295200" y="1085760"/>
              <a:ext cx="6867720" cy="3517200"/>
              <a:chOff x="295200" y="1085760"/>
              <a:chExt cx="6867720" cy="3517200"/>
            </a:xfrm>
          </p:grpSpPr>
          <p:sp>
            <p:nvSpPr>
              <p:cNvPr id="295" name="Rectangle 7"/>
              <p:cNvSpPr/>
              <p:nvPr/>
            </p:nvSpPr>
            <p:spPr>
              <a:xfrm>
                <a:off x="295200" y="1199880"/>
                <a:ext cx="2048040" cy="329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8"/>
              <p:cNvSpPr/>
              <p:nvPr/>
            </p:nvSpPr>
            <p:spPr>
              <a:xfrm>
                <a:off x="1018800" y="3038400"/>
                <a:ext cx="2048040" cy="154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9"/>
              <p:cNvSpPr/>
              <p:nvPr/>
            </p:nvSpPr>
            <p:spPr>
              <a:xfrm>
                <a:off x="5348520" y="2228760"/>
                <a:ext cx="1805040" cy="125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"/>
              <p:cNvSpPr/>
              <p:nvPr/>
            </p:nvSpPr>
            <p:spPr>
              <a:xfrm>
                <a:off x="4514760" y="1085760"/>
                <a:ext cx="1419120" cy="170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1"/>
              <p:cNvSpPr/>
              <p:nvPr/>
            </p:nvSpPr>
            <p:spPr>
              <a:xfrm>
                <a:off x="6010560" y="2695320"/>
                <a:ext cx="1152360" cy="12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363000" y="3791160"/>
                <a:ext cx="79056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3"/>
              <p:cNvSpPr/>
              <p:nvPr/>
            </p:nvSpPr>
            <p:spPr>
              <a:xfrm>
                <a:off x="6591600" y="4162680"/>
                <a:ext cx="542880" cy="39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4"/>
              <p:cNvSpPr/>
              <p:nvPr/>
            </p:nvSpPr>
            <p:spPr>
              <a:xfrm rot="1589400">
                <a:off x="3828600" y="3809880"/>
                <a:ext cx="217440" cy="78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5"/>
              <p:cNvSpPr/>
              <p:nvPr/>
            </p:nvSpPr>
            <p:spPr>
              <a:xfrm>
                <a:off x="4838760" y="3298680"/>
                <a:ext cx="217440" cy="128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6"/>
              <p:cNvSpPr/>
              <p:nvPr/>
            </p:nvSpPr>
            <p:spPr>
              <a:xfrm rot="1494000">
                <a:off x="4330440" y="2841480"/>
                <a:ext cx="88560" cy="81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7"/>
              <p:cNvSpPr/>
              <p:nvPr/>
            </p:nvSpPr>
            <p:spPr>
              <a:xfrm rot="2358000">
                <a:off x="4964040" y="285228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8"/>
              <p:cNvSpPr/>
              <p:nvPr/>
            </p:nvSpPr>
            <p:spPr>
              <a:xfrm rot="2358000">
                <a:off x="4927320" y="269388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9"/>
              <p:cNvSpPr/>
              <p:nvPr/>
            </p:nvSpPr>
            <p:spPr>
              <a:xfrm rot="2358000">
                <a:off x="4765320" y="3155760"/>
                <a:ext cx="112680" cy="314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0"/>
              <p:cNvSpPr/>
              <p:nvPr/>
            </p:nvSpPr>
            <p:spPr>
              <a:xfrm rot="4289400">
                <a:off x="3951000" y="3679920"/>
                <a:ext cx="1126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6"/>
            <p:cNvSpPr/>
            <p:nvPr/>
          </p:nvSpPr>
          <p:spPr>
            <a:xfrm>
              <a:off x="4349880" y="920880"/>
              <a:ext cx="1419120" cy="170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22:10:23Z</dcterms:created>
  <dc:creator>mairin</dc:creator>
  <dc:description/>
  <dc:language>en-US</dc:language>
  <cp:lastModifiedBy>Windows User</cp:lastModifiedBy>
  <dcterms:modified xsi:type="dcterms:W3CDTF">2010-09-28T23:48:31Z</dcterms:modified>
  <cp:revision>407</cp:revision>
  <dc:subject/>
  <dc:title>INITIAL TRAINING NETWORKS</dc:title>
</cp:coreProperties>
</file>