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9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458-D563-4921-98F5-EFED5C9BBB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199E-CCA9-48AA-8A14-2CC8A7CB7A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396-DDED-47AC-9A7F-4EC225B596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1B6D-90C6-4110-9442-7521CEE468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A21-79C3-4FAE-BDF3-4DEC4F93EA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10F-0C21-4D0A-B30D-D658D8CB71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45C-8747-4507-9387-81646FD1FE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F09E-087B-4869-9DEE-F030274408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AA4C-FA8E-4850-9EE5-ED5C305401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0E40-062E-4F88-A388-2E9B825EB9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87BB-A64A-43D7-B504-7F8FEBC167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D18-BE43-4339-BD81-4B31018095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E55E-F39A-4402-8045-F7496C0FF4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F46-EA51-41A7-83AC-14B74F89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8B9-4F7D-4BB2-9C97-991B7EE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ADC-BBEF-478F-BDBB-E9DF8884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4AC-5C73-4C61-AB77-5720821C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DDB-A092-44C6-92CA-008701F6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FAFB-B207-4A16-8B7B-22F7C83C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F4D-C6FB-4FDA-8E58-62967BC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F685-1503-49D2-9A05-9B3F427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1315-0FD1-43BD-95D0-5769F631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4F2-8DEE-4263-ADD1-CFF2301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63C7-BEFF-40FD-A30F-066E60A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000-140B-4B2A-AF7F-C5F18F23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AF5-8D95-47CB-AC32-733990A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CA58-5932-4E11-9E62-76B4CB2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31C6-721A-4CC5-9250-4C3CAA1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A32-6659-40B0-B58F-E8E59418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06B8-179B-46C5-A432-6A31E12C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BA80-FF82-487A-80EA-06E216B2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F001-2156-418A-BF94-6C96BB52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6134-6740-4A50-9C3E-0B8A5356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2583-D892-4408-93ED-B74814B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110E-33F6-40AD-9A08-C17AE3DE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7AC-42D8-4948-98E9-5822C69B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1FA3-0214-4868-91AA-49BA012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5DD7-B2AE-4E96-9351-8C581B7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40C1-EC9C-4EC5-A660-8EE9D44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C420-9683-428B-BC8D-F78833F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7F52-0783-44FB-9A1A-74B16116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815B-1324-4B9A-B2FD-90DFC985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E356-2060-4209-8480-E47A2445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D62E-3860-4F6C-89A1-FE275E81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5A6E-7E36-4C2B-954D-55D4C1D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9A66-6F32-40A0-BCEF-A1D07B1D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022-F814-40EF-9988-2A9D0F61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A1C0-AA5C-4720-85CD-5963D90C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446D-B688-48D5-AF40-18A8B6D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3F93-5267-4991-9BC2-E142B85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2CDE-7A63-467A-B6B9-07FCAC9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0DE1-38B6-4783-81BF-5407491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260D-D1CA-4546-A0D8-F750B30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F815-C2D0-425E-B0A6-50636E9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19B1-AC76-4689-BD34-8FE28917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0BC1-57C4-44FF-B2AA-2B03A829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F406-85A4-4206-8761-BE70F479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DD8-05D5-4C92-8E4B-CFD3694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5431-1EA1-4F98-ACFD-C8A6B8AF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6928-FFE5-4D92-8171-7AE4E9D6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1AE6-E82A-4B1C-A48E-33689956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11A9-802E-4437-AAB8-166D66B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8087-860E-4BBE-952C-B0CC6DA4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541B-4132-4D1D-A3E8-C451049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BB3E-4C5D-4FE3-95FE-EF459F4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6563-DE6F-44FF-B5C0-E28585B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092A-043B-4866-8F18-92B3C3A9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3081-7C0F-4585-9368-FA5F717D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DEA-64D9-4392-A479-2DFBD7A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FC51-323C-4180-AA7A-F62B90A8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7DC-409C-4A69-AF81-7974225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1D2-41E6-4F8D-ABA6-585339DC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1A6-77DB-4ED8-83B1-794085B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191C-7169-478B-9D3C-EBD06A54C481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B74-C169-4F82-AE58-DB727BFB3A0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EE1-F56A-4297-875B-D635BFADDECF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B1F6-0DA8-4280-B995-911E097BB8A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E28-5FB0-4DDC-813D-D1F9FC77AE44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-353880" y="1638360"/>
            <a:ext cx="9747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9b2d1f"/>
                </a:solidFill>
                <a:latin typeface="Arial"/>
              </a:rPr>
              <a:t>From Target-Breast to Target-Mela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Prof. William M. Galla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ce-Principal of Research and Innovation, UCD College of Life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ociate Professor of Cancer Biolog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UCD School of Biomolecular &amp; Biomed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way Fellow, UCD Conway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-Founder/Chief Scientific Officer, OncoMark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782440" y="5889600"/>
            <a:ext cx="3550320" cy="459720"/>
          </a:xfrm>
          <a:prstGeom prst="rect">
            <a:avLst/>
          </a:prstGeom>
          <a:solidFill>
            <a:srgbClr val="e89421"/>
          </a:solidFill>
          <a:ln w="9360">
            <a:solidFill>
              <a:srgbClr val="f3a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liam.gallagher@ucd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6" descr="building.jpg"/>
          <p:cNvPicPr/>
          <p:nvPr/>
        </p:nvPicPr>
        <p:blipFill>
          <a:blip r:embed="rId1"/>
          <a:stretch/>
        </p:blipFill>
        <p:spPr>
          <a:xfrm>
            <a:off x="520560" y="2411280"/>
            <a:ext cx="3530880" cy="1266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1865520" y="326880"/>
            <a:ext cx="5337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Arial"/>
              </a:rPr>
              <a:t>Marie Curie IAPP/I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70c0"/>
                </a:solidFill>
                <a:latin typeface="Arial"/>
              </a:rPr>
              <a:t>29</a:t>
            </a:r>
            <a:r>
              <a:rPr b="1" lang="en-IE" sz="2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70c0"/>
                </a:solidFill>
                <a:latin typeface="Arial"/>
              </a:rPr>
              <a:t> September 2010, Royal Irish Acade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rcRect l="14509" t="14690" r="62650" b="72190"/>
          <a:stretch/>
        </p:blipFill>
        <p:spPr>
          <a:xfrm>
            <a:off x="162000" y="5865840"/>
            <a:ext cx="1974600" cy="638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7" descr="novaucd%20360.jpg"/>
          <p:cNvPicPr/>
          <p:nvPr/>
        </p:nvPicPr>
        <p:blipFill>
          <a:blip r:embed="rId4"/>
          <a:stretch/>
        </p:blipFill>
        <p:spPr>
          <a:xfrm>
            <a:off x="4346640" y="2646360"/>
            <a:ext cx="44654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0"/>
          <p:cNvGrpSpPr/>
          <p:nvPr/>
        </p:nvGrpSpPr>
        <p:grpSpPr>
          <a:xfrm>
            <a:off x="193680" y="604800"/>
            <a:ext cx="8670960" cy="5730840"/>
            <a:chOff x="193680" y="604800"/>
            <a:chExt cx="8670960" cy="5730840"/>
          </a:xfrm>
        </p:grpSpPr>
        <p:pic>
          <p:nvPicPr>
            <p:cNvPr id="311" name="Picture 5" descr=""/>
            <p:cNvPicPr/>
            <p:nvPr/>
          </p:nvPicPr>
          <p:blipFill>
            <a:blip r:embed="rId1"/>
            <a:srcRect l="16385" t="28233" r="16523" b="9208"/>
            <a:stretch/>
          </p:blipFill>
          <p:spPr>
            <a:xfrm>
              <a:off x="193680" y="604800"/>
              <a:ext cx="8670960" cy="57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6"/>
            <p:cNvGrpSpPr/>
            <p:nvPr/>
          </p:nvGrpSpPr>
          <p:grpSpPr>
            <a:xfrm>
              <a:off x="3561840" y="5397120"/>
              <a:ext cx="1434600" cy="510840"/>
              <a:chOff x="3561840" y="5397120"/>
              <a:chExt cx="1434600" cy="510840"/>
            </a:xfrm>
          </p:grpSpPr>
          <p:sp>
            <p:nvSpPr>
              <p:cNvPr id="313" name="Rectangle 7"/>
              <p:cNvSpPr/>
              <p:nvPr/>
            </p:nvSpPr>
            <p:spPr>
              <a:xfrm>
                <a:off x="3561840" y="5397120"/>
                <a:ext cx="1292760" cy="510840"/>
              </a:xfrm>
              <a:prstGeom prst="rect">
                <a:avLst/>
              </a:prstGeom>
              <a:solidFill>
                <a:srgbClr val="d8d8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"/>
              <p:cNvSpPr/>
              <p:nvPr/>
            </p:nvSpPr>
            <p:spPr>
              <a:xfrm>
                <a:off x="3632760" y="5465160"/>
                <a:ext cx="136368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UV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3"/>
          <p:cNvGrpSpPr/>
          <p:nvPr/>
        </p:nvGrpSpPr>
        <p:grpSpPr>
          <a:xfrm>
            <a:off x="295200" y="920880"/>
            <a:ext cx="6867720" cy="3682080"/>
            <a:chOff x="295200" y="920880"/>
            <a:chExt cx="6867720" cy="3682080"/>
          </a:xfrm>
        </p:grpSpPr>
        <p:grpSp>
          <p:nvGrpSpPr>
            <p:cNvPr id="316" name="Group 22"/>
            <p:cNvGrpSpPr/>
            <p:nvPr/>
          </p:nvGrpSpPr>
          <p:grpSpPr>
            <a:xfrm>
              <a:off x="295200" y="1085760"/>
              <a:ext cx="6867720" cy="3517200"/>
              <a:chOff x="295200" y="1085760"/>
              <a:chExt cx="6867720" cy="3517200"/>
            </a:xfrm>
          </p:grpSpPr>
          <p:sp>
            <p:nvSpPr>
              <p:cNvPr id="317" name="Rectangle 7"/>
              <p:cNvSpPr/>
              <p:nvPr/>
            </p:nvSpPr>
            <p:spPr>
              <a:xfrm>
                <a:off x="295200" y="1199880"/>
                <a:ext cx="2048040" cy="329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"/>
              <p:cNvSpPr/>
              <p:nvPr/>
            </p:nvSpPr>
            <p:spPr>
              <a:xfrm>
                <a:off x="1018800" y="3038400"/>
                <a:ext cx="2048040" cy="154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9"/>
              <p:cNvSpPr/>
              <p:nvPr/>
            </p:nvSpPr>
            <p:spPr>
              <a:xfrm>
                <a:off x="5348520" y="2228760"/>
                <a:ext cx="1805040" cy="125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0"/>
              <p:cNvSpPr/>
              <p:nvPr/>
            </p:nvSpPr>
            <p:spPr>
              <a:xfrm>
                <a:off x="4514760" y="1085760"/>
                <a:ext cx="1419120" cy="170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1"/>
              <p:cNvSpPr/>
              <p:nvPr/>
            </p:nvSpPr>
            <p:spPr>
              <a:xfrm>
                <a:off x="6010560" y="2695320"/>
                <a:ext cx="1152360" cy="12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2"/>
              <p:cNvSpPr/>
              <p:nvPr/>
            </p:nvSpPr>
            <p:spPr>
              <a:xfrm>
                <a:off x="6363000" y="3791160"/>
                <a:ext cx="79056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3"/>
              <p:cNvSpPr/>
              <p:nvPr/>
            </p:nvSpPr>
            <p:spPr>
              <a:xfrm>
                <a:off x="6591600" y="4162680"/>
                <a:ext cx="54288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 rot="1589400">
                <a:off x="3828600" y="3809880"/>
                <a:ext cx="217440" cy="785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15"/>
              <p:cNvSpPr/>
              <p:nvPr/>
            </p:nvSpPr>
            <p:spPr>
              <a:xfrm>
                <a:off x="4838760" y="3298680"/>
                <a:ext cx="217440" cy="128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6"/>
              <p:cNvSpPr/>
              <p:nvPr/>
            </p:nvSpPr>
            <p:spPr>
              <a:xfrm rot="1494000">
                <a:off x="4330440" y="2841480"/>
                <a:ext cx="88560" cy="81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7"/>
              <p:cNvSpPr/>
              <p:nvPr/>
            </p:nvSpPr>
            <p:spPr>
              <a:xfrm rot="2358000">
                <a:off x="4964040" y="285228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8"/>
              <p:cNvSpPr/>
              <p:nvPr/>
            </p:nvSpPr>
            <p:spPr>
              <a:xfrm rot="2358000">
                <a:off x="4927320" y="269388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9"/>
              <p:cNvSpPr/>
              <p:nvPr/>
            </p:nvSpPr>
            <p:spPr>
              <a:xfrm rot="2358000">
                <a:off x="4765320" y="315576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0"/>
              <p:cNvSpPr/>
              <p:nvPr/>
            </p:nvSpPr>
            <p:spPr>
              <a:xfrm rot="4289400">
                <a:off x="3951000" y="367992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Rectangle 6"/>
            <p:cNvSpPr/>
            <p:nvPr/>
          </p:nvSpPr>
          <p:spPr>
            <a:xfrm>
              <a:off x="4349880" y="920880"/>
              <a:ext cx="1419120" cy="170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Straight Arrow Connector 24"/>
          <p:cNvCxnSpPr/>
          <p:nvPr/>
        </p:nvCxnSpPr>
        <p:spPr>
          <a:xfrm flipV="1">
            <a:off x="1257480" y="1993680"/>
            <a:ext cx="1296000" cy="256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25"/>
          <p:cNvSpPr/>
          <p:nvPr/>
        </p:nvSpPr>
        <p:spPr>
          <a:xfrm>
            <a:off x="635040" y="3695760"/>
            <a:ext cx="123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Arial"/>
              </a:rPr>
              <a:t>ER1(18-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0000"/>
                </a:solidFill>
                <a:latin typeface="Arial"/>
              </a:rPr>
              <a:t>Methylation profiling of Melan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26"/>
          <p:cNvCxnSpPr/>
          <p:nvPr/>
        </p:nvCxnSpPr>
        <p:spPr>
          <a:xfrm>
            <a:off x="3683160" y="2324160"/>
            <a:ext cx="915120" cy="2147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5" name="Straight Arrow Connector 32"/>
          <p:cNvCxnSpPr/>
          <p:nvPr/>
        </p:nvCxnSpPr>
        <p:spPr>
          <a:xfrm>
            <a:off x="3835440" y="2323800"/>
            <a:ext cx="940320" cy="2134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cxnSp>
        <p:nvCxnSpPr>
          <p:cNvPr id="336" name="Straight Arrow Connector 33"/>
          <p:cNvCxnSpPr>
            <a:endCxn id="323" idx="1"/>
          </p:cNvCxnSpPr>
          <p:nvPr/>
        </p:nvCxnSpPr>
        <p:spPr>
          <a:xfrm>
            <a:off x="3962520" y="2222280"/>
            <a:ext cx="2629440" cy="2135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cxnSp>
        <p:nvCxnSpPr>
          <p:cNvPr id="337" name="Straight Arrow Connector 36"/>
          <p:cNvCxnSpPr/>
          <p:nvPr/>
        </p:nvCxnSpPr>
        <p:spPr>
          <a:xfrm>
            <a:off x="3327480" y="2336400"/>
            <a:ext cx="25920" cy="215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b2d1f"/>
                </a:solidFill>
                <a:latin typeface="Arial"/>
                <a:ea typeface="Arial"/>
              </a:rPr>
              <a:t>Time-L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cxnSp>
        <p:nvCxnSpPr>
          <p:cNvPr id="339" name="Straight Arrow Connector 8"/>
          <p:cNvCxnSpPr/>
          <p:nvPr/>
        </p:nvCxnSpPr>
        <p:spPr>
          <a:xfrm>
            <a:off x="304920" y="4130280"/>
            <a:ext cx="8031600" cy="252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triangle" w="med"/>
          </a:ln>
        </p:spPr>
      </p:cxnSp>
      <p:grpSp>
        <p:nvGrpSpPr>
          <p:cNvPr id="340" name="Group 32"/>
          <p:cNvGrpSpPr/>
          <p:nvPr/>
        </p:nvGrpSpPr>
        <p:grpSpPr>
          <a:xfrm>
            <a:off x="92160" y="2041560"/>
            <a:ext cx="1614240" cy="2089080"/>
            <a:chOff x="92160" y="2041560"/>
            <a:chExt cx="1614240" cy="2089080"/>
          </a:xfrm>
        </p:grpSpPr>
        <p:cxnSp>
          <p:nvCxnSpPr>
            <p:cNvPr id="341" name="Straight Arrow Connector 10"/>
            <p:cNvCxnSpPr/>
            <p:nvPr/>
          </p:nvCxnSpPr>
          <p:spPr>
            <a:xfrm flipH="1">
              <a:off x="304200" y="3266640"/>
              <a:ext cx="2160" cy="864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  <p:sp>
          <p:nvSpPr>
            <p:cNvPr id="342" name="TextBox 11"/>
            <p:cNvSpPr/>
            <p:nvPr/>
          </p:nvSpPr>
          <p:spPr>
            <a:xfrm>
              <a:off x="92160" y="2041560"/>
              <a:ext cx="1614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c 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iti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tact with Part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3"/>
          <p:cNvGrpSpPr/>
          <p:nvPr/>
        </p:nvGrpSpPr>
        <p:grpSpPr>
          <a:xfrm>
            <a:off x="469080" y="4176000"/>
            <a:ext cx="1354320" cy="1235160"/>
            <a:chOff x="469080" y="4176000"/>
            <a:chExt cx="1354320" cy="1235160"/>
          </a:xfrm>
        </p:grpSpPr>
        <p:sp>
          <p:nvSpPr>
            <p:cNvPr id="344" name="TextBox 12"/>
            <p:cNvSpPr/>
            <p:nvPr/>
          </p:nvSpPr>
          <p:spPr>
            <a:xfrm>
              <a:off x="469080" y="4830480"/>
              <a:ext cx="135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an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rst me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5" name="Straight Arrow Connector 13"/>
            <p:cNvCxnSpPr/>
            <p:nvPr/>
          </p:nvCxnSpPr>
          <p:spPr>
            <a:xfrm flipH="1" flipV="1">
              <a:off x="942480" y="4176000"/>
              <a:ext cx="2160" cy="7009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46" name="Group 34"/>
          <p:cNvGrpSpPr/>
          <p:nvPr/>
        </p:nvGrpSpPr>
        <p:grpSpPr>
          <a:xfrm>
            <a:off x="1398600" y="2560680"/>
            <a:ext cx="1690560" cy="1569960"/>
            <a:chOff x="1398600" y="2560680"/>
            <a:chExt cx="1690560" cy="1569960"/>
          </a:xfrm>
        </p:grpSpPr>
        <p:sp>
          <p:nvSpPr>
            <p:cNvPr id="347" name="TextBox 14"/>
            <p:cNvSpPr/>
            <p:nvPr/>
          </p:nvSpPr>
          <p:spPr>
            <a:xfrm>
              <a:off x="1398600" y="2560680"/>
              <a:ext cx="1690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eb/Mar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draft &amp; feedb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8" name="Straight Arrow Connector 15"/>
            <p:cNvCxnSpPr/>
            <p:nvPr/>
          </p:nvCxnSpPr>
          <p:spPr>
            <a:xfrm flipH="1">
              <a:off x="1690200" y="3458880"/>
              <a:ext cx="216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49" name="Group 35"/>
          <p:cNvGrpSpPr/>
          <p:nvPr/>
        </p:nvGrpSpPr>
        <p:grpSpPr>
          <a:xfrm>
            <a:off x="1932120" y="4160160"/>
            <a:ext cx="1508040" cy="1479240"/>
            <a:chOff x="1932120" y="4160160"/>
            <a:chExt cx="1508040" cy="1479240"/>
          </a:xfrm>
        </p:grpSpPr>
        <p:sp>
          <p:nvSpPr>
            <p:cNvPr id="350" name="TextBox 23"/>
            <p:cNvSpPr/>
            <p:nvPr/>
          </p:nvSpPr>
          <p:spPr>
            <a:xfrm>
              <a:off x="1932120" y="4815360"/>
              <a:ext cx="150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r 25th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bmit full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Straight Arrow Connector 24"/>
            <p:cNvCxnSpPr/>
            <p:nvPr/>
          </p:nvCxnSpPr>
          <p:spPr>
            <a:xfrm flipH="1" flipV="1">
              <a:off x="2422080" y="416016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52" name="Group 36"/>
          <p:cNvGrpSpPr/>
          <p:nvPr/>
        </p:nvGrpSpPr>
        <p:grpSpPr>
          <a:xfrm>
            <a:off x="2732040" y="2041560"/>
            <a:ext cx="1646280" cy="2074680"/>
            <a:chOff x="2732040" y="2041560"/>
            <a:chExt cx="1646280" cy="2074680"/>
          </a:xfrm>
        </p:grpSpPr>
        <p:sp>
          <p:nvSpPr>
            <p:cNvPr id="353" name="TextBox 25"/>
            <p:cNvSpPr/>
            <p:nvPr/>
          </p:nvSpPr>
          <p:spPr>
            <a:xfrm>
              <a:off x="2732040" y="2041560"/>
              <a:ext cx="1646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uly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ults: On reserve 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ife 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ver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traight Arrow Connector 26"/>
            <p:cNvCxnSpPr/>
            <p:nvPr/>
          </p:nvCxnSpPr>
          <p:spPr>
            <a:xfrm flipH="1">
              <a:off x="3138120" y="3444480"/>
              <a:ext cx="216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55" name="Group 37"/>
          <p:cNvGrpSpPr/>
          <p:nvPr/>
        </p:nvGrpSpPr>
        <p:grpSpPr>
          <a:xfrm>
            <a:off x="3398760" y="4176000"/>
            <a:ext cx="2300400" cy="1479240"/>
            <a:chOff x="3398760" y="4176000"/>
            <a:chExt cx="2300400" cy="1479240"/>
          </a:xfrm>
        </p:grpSpPr>
        <p:sp>
          <p:nvSpPr>
            <p:cNvPr id="356" name="TextBox 27"/>
            <p:cNvSpPr/>
            <p:nvPr/>
          </p:nvSpPr>
          <p:spPr>
            <a:xfrm>
              <a:off x="3398760" y="4831200"/>
              <a:ext cx="23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ov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ife 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ver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7" name="Straight Arrow Connector 28"/>
            <p:cNvCxnSpPr/>
            <p:nvPr/>
          </p:nvCxnSpPr>
          <p:spPr>
            <a:xfrm flipH="1" flipV="1">
              <a:off x="3839760" y="417600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58" name="Group 38"/>
          <p:cNvGrpSpPr/>
          <p:nvPr/>
        </p:nvGrpSpPr>
        <p:grpSpPr>
          <a:xfrm>
            <a:off x="4095720" y="2514600"/>
            <a:ext cx="1540080" cy="1585800"/>
            <a:chOff x="4095720" y="2514600"/>
            <a:chExt cx="1540080" cy="1585800"/>
          </a:xfrm>
        </p:grpSpPr>
        <p:sp>
          <p:nvSpPr>
            <p:cNvPr id="359" name="TextBox 30"/>
            <p:cNvSpPr/>
            <p:nvPr/>
          </p:nvSpPr>
          <p:spPr>
            <a:xfrm>
              <a:off x="4095720" y="2514600"/>
              <a:ext cx="154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 Dec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vitation to negotia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Straight Arrow Connector 31"/>
            <p:cNvCxnSpPr/>
            <p:nvPr/>
          </p:nvCxnSpPr>
          <p:spPr>
            <a:xfrm flipH="1">
              <a:off x="4571280" y="3428640"/>
              <a:ext cx="108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61" name="Group 40"/>
          <p:cNvGrpSpPr/>
          <p:nvPr/>
        </p:nvGrpSpPr>
        <p:grpSpPr>
          <a:xfrm>
            <a:off x="4675320" y="4191840"/>
            <a:ext cx="1904760" cy="1676520"/>
            <a:chOff x="4675320" y="4191840"/>
            <a:chExt cx="1904760" cy="1676520"/>
          </a:xfrm>
        </p:grpSpPr>
        <p:sp>
          <p:nvSpPr>
            <p:cNvPr id="362" name="TextBox 41"/>
            <p:cNvSpPr/>
            <p:nvPr/>
          </p:nvSpPr>
          <p:spPr>
            <a:xfrm>
              <a:off x="4675320" y="4800960"/>
              <a:ext cx="1904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an/Feb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nnex1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antt Chart &amp; GF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3" name="Straight Arrow Connector 42"/>
            <p:cNvCxnSpPr/>
            <p:nvPr/>
          </p:nvCxnSpPr>
          <p:spPr>
            <a:xfrm flipH="1" flipV="1">
              <a:off x="5257440" y="4191840"/>
              <a:ext cx="2160" cy="7009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64" name="Group 44"/>
          <p:cNvGrpSpPr/>
          <p:nvPr/>
        </p:nvGrpSpPr>
        <p:grpSpPr>
          <a:xfrm>
            <a:off x="5459400" y="2517840"/>
            <a:ext cx="1905120" cy="1598400"/>
            <a:chOff x="5459400" y="2517840"/>
            <a:chExt cx="1905120" cy="1598400"/>
          </a:xfrm>
        </p:grpSpPr>
        <p:sp>
          <p:nvSpPr>
            <p:cNvPr id="365" name="TextBox 45"/>
            <p:cNvSpPr/>
            <p:nvPr/>
          </p:nvSpPr>
          <p:spPr>
            <a:xfrm>
              <a:off x="5459400" y="2517840"/>
              <a:ext cx="190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eb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gotiate with Commissio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Straight Arrow Connector 46"/>
            <p:cNvCxnSpPr/>
            <p:nvPr/>
          </p:nvCxnSpPr>
          <p:spPr>
            <a:xfrm flipH="1">
              <a:off x="6003000" y="3444480"/>
              <a:ext cx="108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67" name="Group 48"/>
          <p:cNvGrpSpPr/>
          <p:nvPr/>
        </p:nvGrpSpPr>
        <p:grpSpPr>
          <a:xfrm>
            <a:off x="6183360" y="4176000"/>
            <a:ext cx="1905120" cy="1692360"/>
            <a:chOff x="6183360" y="4176000"/>
            <a:chExt cx="1905120" cy="1692360"/>
          </a:xfrm>
        </p:grpSpPr>
        <p:sp>
          <p:nvSpPr>
            <p:cNvPr id="368" name="TextBox 49"/>
            <p:cNvSpPr/>
            <p:nvPr/>
          </p:nvSpPr>
          <p:spPr>
            <a:xfrm>
              <a:off x="6183360" y="4800960"/>
              <a:ext cx="1905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une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ra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ree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ig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50"/>
            <p:cNvCxnSpPr/>
            <p:nvPr/>
          </p:nvCxnSpPr>
          <p:spPr>
            <a:xfrm flipH="1" flipV="1">
              <a:off x="6719400" y="417600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70" name="Group 44"/>
          <p:cNvGrpSpPr/>
          <p:nvPr/>
        </p:nvGrpSpPr>
        <p:grpSpPr>
          <a:xfrm>
            <a:off x="6988320" y="2498760"/>
            <a:ext cx="1904760" cy="1617480"/>
            <a:chOff x="6988320" y="2498760"/>
            <a:chExt cx="1904760" cy="1617480"/>
          </a:xfrm>
        </p:grpSpPr>
        <p:sp>
          <p:nvSpPr>
            <p:cNvPr id="371" name="TextBox 45"/>
            <p:cNvSpPr/>
            <p:nvPr/>
          </p:nvSpPr>
          <p:spPr>
            <a:xfrm>
              <a:off x="6988320" y="2498760"/>
              <a:ext cx="190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ug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rt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37"/>
            <p:cNvCxnSpPr/>
            <p:nvPr/>
          </p:nvCxnSpPr>
          <p:spPr>
            <a:xfrm flipH="1">
              <a:off x="7322400" y="3444480"/>
              <a:ext cx="108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73" name="Group 48"/>
          <p:cNvGrpSpPr/>
          <p:nvPr/>
        </p:nvGrpSpPr>
        <p:grpSpPr>
          <a:xfrm>
            <a:off x="7429680" y="4176000"/>
            <a:ext cx="1904760" cy="1204920"/>
            <a:chOff x="7429680" y="4176000"/>
            <a:chExt cx="1904760" cy="1204920"/>
          </a:xfrm>
        </p:grpSpPr>
        <p:sp>
          <p:nvSpPr>
            <p:cNvPr id="374" name="TextBox 49"/>
            <p:cNvSpPr/>
            <p:nvPr/>
          </p:nvSpPr>
          <p:spPr>
            <a:xfrm>
              <a:off x="7429680" y="48002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ct 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ick Off meeting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Straight Arrow Connector 39"/>
            <p:cNvCxnSpPr/>
            <p:nvPr/>
          </p:nvCxnSpPr>
          <p:spPr>
            <a:xfrm flipH="1" flipV="1">
              <a:off x="7775280" y="417600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b2d1f"/>
                </a:solidFill>
                <a:latin typeface="Arial"/>
                <a:ea typeface="Arial"/>
              </a:rPr>
              <a:t>Lessons Learned and Comments - II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6840" y="1127160"/>
            <a:ext cx="861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iver was indeed key; in this case, Dr. Mairin Rafferty (formerly Senior Research Fellow in UCD; now Chief Operations Officer in OncoMark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ed complete buy-in from prospective partners – interactions need to make sen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mplate information forms can facilitate retrieval of necessary data from prospective partn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ferable to keep number of partners to a modest level for this programme; can be complex to arrange second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eful mechanism to progress spin-out activities (e.g. OncoMark) and create new product opportunit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ce-to-face meetings, preferably as a group, are highly recommended – people need time to bed down concepts/format of gra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3"/>
          <p:cNvGrpSpPr/>
          <p:nvPr/>
        </p:nvGrpSpPr>
        <p:grpSpPr>
          <a:xfrm>
            <a:off x="1500120" y="1393920"/>
            <a:ext cx="6048360" cy="5040360"/>
            <a:chOff x="1500120" y="1393920"/>
            <a:chExt cx="6048360" cy="5040360"/>
          </a:xfrm>
        </p:grpSpPr>
        <p:grpSp>
          <p:nvGrpSpPr>
            <p:cNvPr id="380" name="Group 31"/>
            <p:cNvGrpSpPr/>
            <p:nvPr/>
          </p:nvGrpSpPr>
          <p:grpSpPr>
            <a:xfrm>
              <a:off x="1500120" y="1393920"/>
              <a:ext cx="6048360" cy="5040360"/>
              <a:chOff x="1500120" y="1393920"/>
              <a:chExt cx="6048360" cy="5040360"/>
            </a:xfrm>
          </p:grpSpPr>
          <p:sp>
            <p:nvSpPr>
              <p:cNvPr id="381" name="TextBox 7"/>
              <p:cNvSpPr/>
              <p:nvPr/>
            </p:nvSpPr>
            <p:spPr>
              <a:xfrm>
                <a:off x="4212000" y="3339360"/>
                <a:ext cx="129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Produc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2" name="Picture 2" descr=""/>
              <p:cNvPicPr/>
              <p:nvPr/>
            </p:nvPicPr>
            <p:blipFill>
              <a:blip r:embed="rId1"/>
              <a:srcRect l="23355" t="3136" r="23355" b="13548"/>
              <a:stretch/>
            </p:blipFill>
            <p:spPr>
              <a:xfrm>
                <a:off x="2913840" y="2404440"/>
                <a:ext cx="3207240" cy="302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Chart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0120" y="1393920"/>
                <a:ext cx="604836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TextBox 10"/>
              <p:cNvSpPr/>
              <p:nvPr/>
            </p:nvSpPr>
            <p:spPr>
              <a:xfrm>
                <a:off x="3910680" y="4358880"/>
                <a:ext cx="121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Serv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Box 11"/>
              <p:cNvSpPr/>
              <p:nvPr/>
            </p:nvSpPr>
            <p:spPr>
              <a:xfrm>
                <a:off x="3661200" y="33634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R+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Straight Connector 12"/>
              <p:cNvSpPr/>
              <p:nvPr/>
            </p:nvSpPr>
            <p:spPr>
              <a:xfrm>
                <a:off x="4503960" y="1546560"/>
                <a:ext cx="4680" cy="23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Straight Connector 13"/>
              <p:cNvSpPr/>
              <p:nvPr/>
            </p:nvSpPr>
            <p:spPr>
              <a:xfrm flipV="1">
                <a:off x="2455920" y="3910320"/>
                <a:ext cx="2069280" cy="120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Straight Connector 14"/>
              <p:cNvSpPr/>
              <p:nvPr/>
            </p:nvSpPr>
            <p:spPr>
              <a:xfrm flipH="1" flipV="1">
                <a:off x="4541400" y="3916800"/>
                <a:ext cx="2037600" cy="11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15"/>
              <p:cNvSpPr/>
              <p:nvPr/>
            </p:nvSpPr>
            <p:spPr>
              <a:xfrm rot="3235800">
                <a:off x="4499640" y="3302640"/>
                <a:ext cx="129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Produc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6"/>
            <p:cNvSpPr/>
            <p:nvPr/>
          </p:nvSpPr>
          <p:spPr>
            <a:xfrm rot="19422600">
              <a:off x="5353920" y="263700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Calibri"/>
                </a:rPr>
                <a:t>IHC-M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16"/>
          <p:cNvSpPr/>
          <p:nvPr/>
        </p:nvSpPr>
        <p:spPr>
          <a:xfrm rot="4309800">
            <a:off x="3480840" y="204588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R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7"/>
          <p:cNvSpPr/>
          <p:nvPr/>
        </p:nvSpPr>
        <p:spPr>
          <a:xfrm rot="1957200">
            <a:off x="2531160" y="28494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Angiot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8"/>
          <p:cNvSpPr/>
          <p:nvPr/>
        </p:nvSpPr>
        <p:spPr>
          <a:xfrm>
            <a:off x="2219400" y="38527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Mela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9"/>
          <p:cNvSpPr/>
          <p:nvPr/>
        </p:nvSpPr>
        <p:spPr>
          <a:xfrm rot="18772800">
            <a:off x="2580480" y="4830480"/>
            <a:ext cx="12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"/>
          <p:cNvSpPr/>
          <p:nvPr/>
        </p:nvSpPr>
        <p:spPr>
          <a:xfrm rot="17671200">
            <a:off x="3314520" y="527364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l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c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1"/>
          <p:cNvSpPr/>
          <p:nvPr/>
        </p:nvSpPr>
        <p:spPr>
          <a:xfrm rot="16200000">
            <a:off x="3994200" y="53816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Autom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2"/>
          <p:cNvSpPr/>
          <p:nvPr/>
        </p:nvSpPr>
        <p:spPr>
          <a:xfrm rot="14575800">
            <a:off x="4676760" y="519804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Pre-clin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 rot="13430400">
            <a:off x="5221440" y="4833360"/>
            <a:ext cx="12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FP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0"/>
          <p:cNvSpPr/>
          <p:nvPr/>
        </p:nvSpPr>
        <p:spPr>
          <a:xfrm>
            <a:off x="1949400" y="1417680"/>
            <a:ext cx="5089680" cy="5013360"/>
          </a:xfrm>
          <a:prstGeom prst="ellipse">
            <a:avLst/>
          </a:prstGeom>
          <a:noFill/>
          <a:ln w="9360">
            <a:solidFill>
              <a:srgbClr val="337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32"/>
          <p:cNvSpPr/>
          <p:nvPr/>
        </p:nvSpPr>
        <p:spPr>
          <a:xfrm flipH="1" flipV="1">
            <a:off x="2924280" y="2073240"/>
            <a:ext cx="822240" cy="914400"/>
          </a:xfrm>
          <a:prstGeom prst="line">
            <a:avLst/>
          </a:prstGeom>
          <a:ln w="9360">
            <a:solidFill>
              <a:srgbClr val="337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3"/>
          <a:stretch/>
        </p:blipFill>
        <p:spPr>
          <a:xfrm>
            <a:off x="272880" y="4206960"/>
            <a:ext cx="1586160" cy="2224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mairin"/>
          <p:cNvPicPr/>
          <p:nvPr/>
        </p:nvPicPr>
        <p:blipFill>
          <a:blip r:embed="rId4"/>
          <a:stretch/>
        </p:blipFill>
        <p:spPr>
          <a:xfrm>
            <a:off x="7108920" y="220680"/>
            <a:ext cx="1806480" cy="21495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7"/>
          <p:cNvSpPr/>
          <p:nvPr/>
        </p:nvSpPr>
        <p:spPr>
          <a:xfrm>
            <a:off x="134640" y="64134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Mr. Stephen Pen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8"/>
          <p:cNvSpPr/>
          <p:nvPr/>
        </p:nvSpPr>
        <p:spPr>
          <a:xfrm>
            <a:off x="7151400" y="24433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Dr. Mairin Raff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470320" y="209520"/>
            <a:ext cx="74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99cc"/>
                </a:solidFill>
                <a:latin typeface="Calibri"/>
              </a:rPr>
              <a:t>Curren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5"/>
          <a:srcRect l="14509" t="14690" r="62650" b="72190"/>
          <a:stretch/>
        </p:blipFill>
        <p:spPr>
          <a:xfrm>
            <a:off x="318960" y="789120"/>
            <a:ext cx="2830680" cy="914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5" descr="N100270383.jpg"/>
          <p:cNvPicPr/>
          <p:nvPr/>
        </p:nvPicPr>
        <p:blipFill>
          <a:blip r:embed="rId6"/>
          <a:stretch/>
        </p:blipFill>
        <p:spPr>
          <a:xfrm>
            <a:off x="7126200" y="3654360"/>
            <a:ext cx="1854360" cy="2778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8"/>
          <p:cNvSpPr/>
          <p:nvPr/>
        </p:nvSpPr>
        <p:spPr>
          <a:xfrm>
            <a:off x="7156080" y="64404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Dr. Dara FitzGera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89000" y="1619280"/>
            <a:ext cx="4403520" cy="4471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131080" y="4491000"/>
            <a:ext cx="3501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b2d1f"/>
                </a:solidFill>
                <a:latin typeface="Arial"/>
              </a:rPr>
              <a:t>Intravital Micros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b2d1f"/>
                </a:solidFill>
                <a:latin typeface="Arial"/>
              </a:rPr>
              <a:t>HT1080 fibrosarcoma tumou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b2d1f"/>
                </a:solidFill>
                <a:latin typeface="Arial"/>
              </a:rPr>
              <a:t>Courtesy of Prof. Robert Hoff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b2d1f"/>
                </a:solidFill>
                <a:latin typeface="Arial"/>
              </a:rPr>
              <a:t>(Anti-Cancer In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1"/>
          <p:cNvSpPr/>
          <p:nvPr/>
        </p:nvSpPr>
        <p:spPr>
          <a:xfrm>
            <a:off x="1235160" y="469800"/>
            <a:ext cx="646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b2d1f"/>
                </a:solidFill>
                <a:latin typeface="Arial"/>
              </a:rPr>
              <a:t>Tumour Growth and Sp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pic>
        <p:nvPicPr>
          <p:cNvPr id="246" name="HT1080movie12.mpg" descr=""/>
          <p:cNvPicPr/>
          <p:nvPr/>
        </p:nvPicPr>
        <p:blipFill>
          <a:blip r:embed="rId3"/>
          <a:stretch/>
        </p:blipFill>
        <p:spPr>
          <a:xfrm>
            <a:off x="4827600" y="1395360"/>
            <a:ext cx="3954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0" descr="Biomarkers1"/>
          <p:cNvPicPr/>
          <p:nvPr/>
        </p:nvPicPr>
        <p:blipFill>
          <a:blip r:embed="rId1"/>
          <a:stretch/>
        </p:blipFill>
        <p:spPr>
          <a:xfrm>
            <a:off x="689040" y="1522440"/>
            <a:ext cx="7785000" cy="4441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613800" y="611280"/>
            <a:ext cx="81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b2d1f"/>
                </a:solidFill>
                <a:latin typeface="Arial"/>
              </a:rPr>
              <a:t>Biomarkers in Cance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3124080" y="6248520"/>
            <a:ext cx="28958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B7B-100A-41EB-BCE2-220666FBDC7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-1482840" y="0"/>
            <a:ext cx="9555120" cy="6215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-642960" y="5929200"/>
            <a:ext cx="10572840" cy="9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-2571840" y="-1214280"/>
            <a:ext cx="3000600" cy="807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5929200" y="0"/>
            <a:ext cx="371484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-1071720" y="0"/>
            <a:ext cx="11072880" cy="1285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2320" y="0"/>
            <a:ext cx="8429400" cy="130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b2d1f"/>
                </a:solidFill>
                <a:latin typeface="Arial"/>
                <a:ea typeface="Arial"/>
              </a:rPr>
              <a:t>Target-Breast: Marie Curie Industry-Academia Partnership ToK Programme (FP6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904000" y="2028960"/>
            <a:ext cx="32400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76280" indent="-476280"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academic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und 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industri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lide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ge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converting omic datasets into clinically relevant as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294680" y="1157400"/>
            <a:ext cx="1063440" cy="350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partner2.gif"/>
          <p:cNvPicPr/>
          <p:nvPr/>
        </p:nvPicPr>
        <p:blipFill>
          <a:blip r:embed="rId3"/>
          <a:stretch/>
        </p:blipFill>
        <p:spPr>
          <a:xfrm>
            <a:off x="7292880" y="1503360"/>
            <a:ext cx="1068480" cy="357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3326400" y="5985000"/>
            <a:ext cx="3213360" cy="459720"/>
          </a:xfrm>
          <a:prstGeom prst="rect">
            <a:avLst/>
          </a:prstGeom>
          <a:solidFill>
            <a:srgbClr val="e89421"/>
          </a:solidFill>
          <a:ln w="9360">
            <a:solidFill>
              <a:srgbClr val="f3a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targetbreas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017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b2d1f"/>
                </a:solidFill>
                <a:latin typeface="Arial"/>
                <a:ea typeface="Arial"/>
              </a:rPr>
              <a:t>Lessons Learned and Comments - I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8080" y="1041480"/>
            <a:ext cx="861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e was of considerable value to consolidate and strengthen pre-existing/new industry-academic interac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ed great opportunities for advanced training of researchers in different sec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on of programme complex, with reporting process difficult in parts (e.g. ambiguous nature of online versus hard copy submissions, EC timeline for sign-off of Annual report – delay of fund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urnover of contact staff at EC (now REA) appears to be quite high; therefore, difficult to maintain relationshi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to recruit good candidates for exchanges: ‘best laid plans!’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for proposal preparation was key to drive process (Enterprise Ireland), as well as feedback/advice from Marie Curie/FP contact points (Dagmar Meyer/Caitriona Creely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ful to complement with other large-scale national (HRB Programme Grant, SFI Cluster Grant) and international (EU IAPP and Collaborative grant) initi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ed to identify key driver in the process for next initiativ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25380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b2d1f"/>
                </a:solidFill>
                <a:latin typeface="Arial"/>
                <a:ea typeface="Arial"/>
              </a:rPr>
              <a:t>Marie Curie Industry Academia Partnership and Pathways Programme (FP7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789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ronym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arget-Melano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 Dissection of Melanoma Progression: An Integrated Pan-European Approac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iginal Partner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 partners (4 SMEs, 5 Academic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artner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7 partners (2 SMEs, 5 academic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73 M eur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20"/>
          <p:cNvGrpSpPr/>
          <p:nvPr/>
        </p:nvGrpSpPr>
        <p:grpSpPr>
          <a:xfrm>
            <a:off x="-630360" y="1533600"/>
            <a:ext cx="9506160" cy="5056200"/>
            <a:chOff x="-630360" y="1533600"/>
            <a:chExt cx="9506160" cy="5056200"/>
          </a:xfrm>
        </p:grpSpPr>
        <p:sp>
          <p:nvSpPr>
            <p:cNvPr id="269" name="Rectangle 5"/>
            <p:cNvSpPr/>
            <p:nvPr/>
          </p:nvSpPr>
          <p:spPr>
            <a:xfrm>
              <a:off x="290160" y="1533600"/>
              <a:ext cx="8585640" cy="505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6"/>
            <p:cNvGrpSpPr/>
            <p:nvPr/>
          </p:nvGrpSpPr>
          <p:grpSpPr>
            <a:xfrm>
              <a:off x="-630360" y="1560600"/>
              <a:ext cx="8820720" cy="5029200"/>
              <a:chOff x="-630360" y="1560600"/>
              <a:chExt cx="8820720" cy="5029200"/>
            </a:xfrm>
          </p:grpSpPr>
          <p:pic>
            <p:nvPicPr>
              <p:cNvPr id="271" name="Picture 23" descr="Slide1"/>
              <p:cNvPicPr/>
              <p:nvPr/>
            </p:nvPicPr>
            <p:blipFill>
              <a:blip r:embed="rId2"/>
              <a:srcRect l="2307" t="7848" r="6216" b="39585"/>
              <a:stretch/>
            </p:blipFill>
            <p:spPr>
              <a:xfrm>
                <a:off x="490680" y="3300480"/>
                <a:ext cx="7699680" cy="328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Rectangle 8"/>
              <p:cNvSpPr/>
              <p:nvPr/>
            </p:nvSpPr>
            <p:spPr>
              <a:xfrm>
                <a:off x="996840" y="1662480"/>
                <a:ext cx="7110720" cy="15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451"/>
                  </a:spcBef>
                  <a:buClr>
                    <a:srgbClr val="0019a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One of the fastest rising cancer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Poor prognosis for advanced diseas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Current therapeutic strategies modestly successfu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Insight into molecular basis of this disease is lack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2"/>
              <p:cNvSpPr/>
              <p:nvPr/>
            </p:nvSpPr>
            <p:spPr>
              <a:xfrm>
                <a:off x="-630360" y="1560600"/>
                <a:ext cx="794268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Franklin Gothic Book"/>
                  </a:rPr>
                  <a:t>Why TARGET-MELANOMA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traight Connector 4"/>
          <p:cNvSpPr/>
          <p:nvPr/>
        </p:nvSpPr>
        <p:spPr>
          <a:xfrm>
            <a:off x="642960" y="3800520"/>
            <a:ext cx="785808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sp>
        <p:nvSpPr>
          <p:cNvPr id="276" name="Title 1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b2d1f"/>
                </a:solidFill>
                <a:latin typeface="Arial"/>
              </a:rPr>
              <a:t>Part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401480"/>
            <a:ext cx="7772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C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Ireland (Coordinator)                       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aastric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Netherlan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Leu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elgiu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DIBE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arcelona, Spai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Upsalla, HP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Swed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oMethyl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elgu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lidepa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DCU, Irela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elli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St.James, Irela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oMa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UCD, Irela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extBox 5"/>
          <p:cNvSpPr/>
          <p:nvPr/>
        </p:nvSpPr>
        <p:spPr>
          <a:xfrm rot="16200000">
            <a:off x="-686160" y="224424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 rot="16200000">
            <a:off x="-163080" y="483336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3"/>
          <p:cNvGrpSpPr/>
          <p:nvPr/>
        </p:nvGrpSpPr>
        <p:grpSpPr>
          <a:xfrm>
            <a:off x="1432080" y="4281480"/>
            <a:ext cx="3520800" cy="488880"/>
            <a:chOff x="1432080" y="4281480"/>
            <a:chExt cx="3520800" cy="488880"/>
          </a:xfrm>
        </p:grpSpPr>
        <p:sp>
          <p:nvSpPr>
            <p:cNvPr id="281" name="Straight Connector 25"/>
            <p:cNvSpPr/>
            <p:nvPr/>
          </p:nvSpPr>
          <p:spPr>
            <a:xfrm>
              <a:off x="1432080" y="4770360"/>
              <a:ext cx="3504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26"/>
            <p:cNvSpPr/>
            <p:nvPr/>
          </p:nvSpPr>
          <p:spPr>
            <a:xfrm>
              <a:off x="1447920" y="4281480"/>
              <a:ext cx="3504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0"/>
          <p:cNvGrpSpPr/>
          <p:nvPr/>
        </p:nvGrpSpPr>
        <p:grpSpPr>
          <a:xfrm>
            <a:off x="198360" y="593640"/>
            <a:ext cx="8670960" cy="5730840"/>
            <a:chOff x="198360" y="593640"/>
            <a:chExt cx="8670960" cy="5730840"/>
          </a:xfrm>
        </p:grpSpPr>
        <p:pic>
          <p:nvPicPr>
            <p:cNvPr id="284" name="Picture 5" descr=""/>
            <p:cNvPicPr/>
            <p:nvPr/>
          </p:nvPicPr>
          <p:blipFill>
            <a:blip r:embed="rId1"/>
            <a:srcRect l="16385" t="28233" r="16523" b="9208"/>
            <a:stretch/>
          </p:blipFill>
          <p:spPr>
            <a:xfrm>
              <a:off x="198360" y="593640"/>
              <a:ext cx="8670960" cy="57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Group 6"/>
            <p:cNvGrpSpPr/>
            <p:nvPr/>
          </p:nvGrpSpPr>
          <p:grpSpPr>
            <a:xfrm>
              <a:off x="3566520" y="5385960"/>
              <a:ext cx="1434600" cy="510840"/>
              <a:chOff x="3566520" y="5385960"/>
              <a:chExt cx="1434600" cy="510840"/>
            </a:xfrm>
          </p:grpSpPr>
          <p:sp>
            <p:nvSpPr>
              <p:cNvPr id="286" name="Rectangle 7"/>
              <p:cNvSpPr/>
              <p:nvPr/>
            </p:nvSpPr>
            <p:spPr>
              <a:xfrm>
                <a:off x="3566520" y="5385960"/>
                <a:ext cx="1292760" cy="510840"/>
              </a:xfrm>
              <a:prstGeom prst="rect">
                <a:avLst/>
              </a:prstGeom>
              <a:solidFill>
                <a:srgbClr val="d8d8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"/>
              <p:cNvSpPr/>
              <p:nvPr/>
            </p:nvSpPr>
            <p:spPr>
              <a:xfrm>
                <a:off x="3637440" y="5454000"/>
                <a:ext cx="136368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UV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10"/>
          <p:cNvGrpSpPr/>
          <p:nvPr/>
        </p:nvGrpSpPr>
        <p:grpSpPr>
          <a:xfrm>
            <a:off x="193680" y="604800"/>
            <a:ext cx="8670960" cy="5730840"/>
            <a:chOff x="193680" y="604800"/>
            <a:chExt cx="8670960" cy="5730840"/>
          </a:xfrm>
        </p:grpSpPr>
        <p:pic>
          <p:nvPicPr>
            <p:cNvPr id="289" name="Picture 5" descr=""/>
            <p:cNvPicPr/>
            <p:nvPr/>
          </p:nvPicPr>
          <p:blipFill>
            <a:blip r:embed="rId1"/>
            <a:srcRect l="16385" t="28233" r="16523" b="9208"/>
            <a:stretch/>
          </p:blipFill>
          <p:spPr>
            <a:xfrm>
              <a:off x="193680" y="604800"/>
              <a:ext cx="8670960" cy="57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0" name="Group 6"/>
            <p:cNvGrpSpPr/>
            <p:nvPr/>
          </p:nvGrpSpPr>
          <p:grpSpPr>
            <a:xfrm>
              <a:off x="3561840" y="5397120"/>
              <a:ext cx="1434600" cy="510840"/>
              <a:chOff x="3561840" y="5397120"/>
              <a:chExt cx="1434600" cy="510840"/>
            </a:xfrm>
          </p:grpSpPr>
          <p:sp>
            <p:nvSpPr>
              <p:cNvPr id="291" name="Rectangle 7"/>
              <p:cNvSpPr/>
              <p:nvPr/>
            </p:nvSpPr>
            <p:spPr>
              <a:xfrm>
                <a:off x="3561840" y="5397120"/>
                <a:ext cx="1292760" cy="510840"/>
              </a:xfrm>
              <a:prstGeom prst="rect">
                <a:avLst/>
              </a:prstGeom>
              <a:solidFill>
                <a:srgbClr val="d8d8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"/>
              <p:cNvSpPr/>
              <p:nvPr/>
            </p:nvSpPr>
            <p:spPr>
              <a:xfrm>
                <a:off x="3632760" y="5465160"/>
                <a:ext cx="136368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UV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23"/>
          <p:cNvGrpSpPr/>
          <p:nvPr/>
        </p:nvGrpSpPr>
        <p:grpSpPr>
          <a:xfrm>
            <a:off x="295200" y="920880"/>
            <a:ext cx="6867720" cy="3682080"/>
            <a:chOff x="295200" y="920880"/>
            <a:chExt cx="6867720" cy="3682080"/>
          </a:xfrm>
        </p:grpSpPr>
        <p:grpSp>
          <p:nvGrpSpPr>
            <p:cNvPr id="294" name="Group 22"/>
            <p:cNvGrpSpPr/>
            <p:nvPr/>
          </p:nvGrpSpPr>
          <p:grpSpPr>
            <a:xfrm>
              <a:off x="295200" y="1085760"/>
              <a:ext cx="6867720" cy="3517200"/>
              <a:chOff x="295200" y="1085760"/>
              <a:chExt cx="6867720" cy="3517200"/>
            </a:xfrm>
          </p:grpSpPr>
          <p:sp>
            <p:nvSpPr>
              <p:cNvPr id="295" name="Rectangle 7"/>
              <p:cNvSpPr/>
              <p:nvPr/>
            </p:nvSpPr>
            <p:spPr>
              <a:xfrm>
                <a:off x="295200" y="1199880"/>
                <a:ext cx="2048040" cy="329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8"/>
              <p:cNvSpPr/>
              <p:nvPr/>
            </p:nvSpPr>
            <p:spPr>
              <a:xfrm>
                <a:off x="1018800" y="3038400"/>
                <a:ext cx="2048040" cy="154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9"/>
              <p:cNvSpPr/>
              <p:nvPr/>
            </p:nvSpPr>
            <p:spPr>
              <a:xfrm>
                <a:off x="5348520" y="2228760"/>
                <a:ext cx="1805040" cy="125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"/>
              <p:cNvSpPr/>
              <p:nvPr/>
            </p:nvSpPr>
            <p:spPr>
              <a:xfrm>
                <a:off x="4514760" y="1085760"/>
                <a:ext cx="1419120" cy="170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1"/>
              <p:cNvSpPr/>
              <p:nvPr/>
            </p:nvSpPr>
            <p:spPr>
              <a:xfrm>
                <a:off x="6010560" y="2695320"/>
                <a:ext cx="1152360" cy="12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6363000" y="3791160"/>
                <a:ext cx="79056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3"/>
              <p:cNvSpPr/>
              <p:nvPr/>
            </p:nvSpPr>
            <p:spPr>
              <a:xfrm>
                <a:off x="6591600" y="4162680"/>
                <a:ext cx="54288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4"/>
              <p:cNvSpPr/>
              <p:nvPr/>
            </p:nvSpPr>
            <p:spPr>
              <a:xfrm rot="1589400">
                <a:off x="3828600" y="3809880"/>
                <a:ext cx="217440" cy="785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5"/>
              <p:cNvSpPr/>
              <p:nvPr/>
            </p:nvSpPr>
            <p:spPr>
              <a:xfrm>
                <a:off x="4838760" y="3298680"/>
                <a:ext cx="217440" cy="128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6"/>
              <p:cNvSpPr/>
              <p:nvPr/>
            </p:nvSpPr>
            <p:spPr>
              <a:xfrm rot="1494000">
                <a:off x="4330440" y="2841480"/>
                <a:ext cx="88560" cy="81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7"/>
              <p:cNvSpPr/>
              <p:nvPr/>
            </p:nvSpPr>
            <p:spPr>
              <a:xfrm rot="2358000">
                <a:off x="4964040" y="285228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8"/>
              <p:cNvSpPr/>
              <p:nvPr/>
            </p:nvSpPr>
            <p:spPr>
              <a:xfrm rot="2358000">
                <a:off x="4927320" y="269388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9"/>
              <p:cNvSpPr/>
              <p:nvPr/>
            </p:nvSpPr>
            <p:spPr>
              <a:xfrm rot="2358000">
                <a:off x="4765320" y="315576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0"/>
              <p:cNvSpPr/>
              <p:nvPr/>
            </p:nvSpPr>
            <p:spPr>
              <a:xfrm rot="4289400">
                <a:off x="3951000" y="367992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6"/>
            <p:cNvSpPr/>
            <p:nvPr/>
          </p:nvSpPr>
          <p:spPr>
            <a:xfrm>
              <a:off x="4349880" y="920880"/>
              <a:ext cx="1419120" cy="170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22:10:23Z</dcterms:created>
  <dc:creator>mairin</dc:creator>
  <dc:description/>
  <dc:language>en-US</dc:language>
  <cp:lastModifiedBy>Windows User</cp:lastModifiedBy>
  <dcterms:modified xsi:type="dcterms:W3CDTF">2010-09-28T23:48:31Z</dcterms:modified>
  <cp:revision>407</cp:revision>
  <dc:subject/>
  <dc:title>INITIAL TRAINING NETWORKS</dc:title>
</cp:coreProperties>
</file>