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F67-0210-477D-9620-97D548A5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106-868A-4DC1-B766-1885CF59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5D7-D126-42F2-B683-CC1FCD20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F89-D40F-4018-AB52-DA98BFF7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B81-E231-4432-B820-ED6320D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ACA-98BC-4190-90A8-6460748C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1B7-4591-4C02-ABC7-F3D4950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650-3B5A-4B3E-A8EB-8DAF232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942-64A1-4656-A72D-1F9C0922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FDC-AD02-450F-848B-5AC2B6E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074-C301-47F9-9185-B5F1C13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3C5-5CE7-4828-909B-6B8A8D2F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7</a:t>
            </a:r>
            <a:r>
              <a:rPr b="0" lang="en-US" sz="900" spc="-1" strike="noStrike" baseline="30000">
                <a:solidFill>
                  <a:srgbClr val="969696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 April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ECE-92A6-48D3-9062-BE20A0EF1FB9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gmar.meyer@iua.ie" TargetMode="External"/><Relationship Id="rId2" Type="http://schemas.openxmlformats.org/officeDocument/2006/relationships/hyperlink" Target="mailto:conor.ocarroll@iua.ie" TargetMode="External"/><Relationship Id="rId3" Type="http://schemas.openxmlformats.org/officeDocument/2006/relationships/hyperlink" Target="mailto:mariecurie@iua.ie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068640"/>
            <a:ext cx="745308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ssistance and support for IAPP applic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PP National Info Day                                              7 Apri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r. Dagmar M. Me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arie Curie National Contac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28000" y="64008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iua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08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rie Curie contacts in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8000" y="2060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IUA Marie Curie Office – National Contac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r. Dagmar Meyer (</a:t>
            </a:r>
            <a:r>
              <a:rPr b="0" lang="en-IE" sz="2400" spc="-1" strike="noStrike" u="sng">
                <a:solidFill>
                  <a:srgbClr val="236441"/>
                </a:solidFill>
                <a:uFillTx/>
                <a:latin typeface="Arial"/>
                <a:hlinkClick r:id="rId1"/>
              </a:rPr>
              <a:t>dagmar.meyer@iua.ie</a:t>
            </a: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r. Conor O’Carroll (</a:t>
            </a:r>
            <a:r>
              <a:rPr b="0" lang="en-IE" sz="2400" spc="-1" strike="noStrike" u="sng">
                <a:solidFill>
                  <a:srgbClr val="236441"/>
                </a:solidFill>
                <a:uFillTx/>
                <a:latin typeface="Arial"/>
                <a:hlinkClick r:id="rId2"/>
              </a:rPr>
              <a:t>conor.ocarroll@iua.ie</a:t>
            </a: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236441"/>
                </a:solidFill>
                <a:uFillTx/>
                <a:latin typeface="Arial"/>
                <a:hlinkClick r:id="rId3"/>
              </a:rPr>
              <a:t>mariecurie@iua.ie</a:t>
            </a:r>
            <a:r>
              <a:rPr b="1" lang="en-IE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+353-(0)1 676 4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Enterprise Ireland – National Contac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Focus on Industry - Bill 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1c6445"/>
                </a:solidFill>
                <a:latin typeface="Arial"/>
              </a:rPr>
              <a:t>bill.kee@enterprise-irelan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+353-(0)1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727 22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99C-1044-44AC-9A1E-76B198C9FF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74054-BC25-4EB2-9F6E-2F88AEB22244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Seminars and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978200"/>
            <a:ext cx="8569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Organise info days, workshops and special sessions at other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Seminars on IAPP and Individual Fellowships and Grants in April and May 2009 (open to external participa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Check the Irish FP7 Portal (www.fp7.ie) for dates and det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Can also run tailor-made sessions on demand </a:t>
            </a: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if there is a critical mass</a:t>
            </a: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56C-2D2C-4E71-B95D-DD6DAD73AE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22C68-AEF8-476B-88A8-FAF572BE556A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Individual as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798200"/>
            <a:ext cx="856908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Customized one-to-one support before and during proposal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iscussion of project ideas </a:t>
            </a:r>
            <a:r>
              <a:rPr b="0" i="1" lang="en-IE" sz="2400" spc="-1" strike="noStrike">
                <a:solidFill>
                  <a:srgbClr val="996600"/>
                </a:solidFill>
                <a:latin typeface="Arial"/>
              </a:rPr>
              <a:t>(Is IAPP the right programme for you? What other options exi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Advice on eligibility and other technical iss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Pre-submission proposal checks (feedback on draft proposals, </a:t>
            </a:r>
            <a:r>
              <a:rPr b="1" lang="en-IE" sz="2400" spc="-1" strike="noStrike">
                <a:solidFill>
                  <a:srgbClr val="996600"/>
                </a:solidFill>
                <a:latin typeface="Arial"/>
              </a:rPr>
              <a:t>first-come first-served</a:t>
            </a: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Assistance at negotiation and implementation stage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Clarification of questions related to financial procedures (e.g. eligibility of specific cost items)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9EA-0D19-4D3D-B353-2C4FF9F4F3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73899-6784-4186-839C-796A5DA95508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Direct line” to Com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1943280"/>
            <a:ext cx="828036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Clarification of specific queries and issues on a case-by-case ba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Recommendation as expert eval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Register as expert through FP7 website on CORDIS (https://cordis.europa.eu/emmfp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Contact your Research Officer or equivalent to be recommended by I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Feedback to Commission on your experiences (good and bad!) through NCP Network and Programm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F69-3AC0-4732-9164-54F8FF7565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2942A-57BE-4ED1-898F-4EE9EBAB1EEF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324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European Network of N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1798200"/>
            <a:ext cx="82803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Network of National Contact Points in all EU Member States and Associated Countries, plus certain Third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Help with </a:t>
            </a:r>
            <a:r>
              <a:rPr b="1" lang="en-IE" sz="2800" spc="-1" strike="noStrike">
                <a:solidFill>
                  <a:srgbClr val="996600"/>
                </a:solidFill>
                <a:latin typeface="Arial"/>
              </a:rPr>
              <a:t>partner search</a:t>
            </a: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 for you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Directly through partner NCP if you’re looking for a partner in a specific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6600"/>
                </a:solidFill>
                <a:latin typeface="Arial"/>
              </a:rPr>
              <a:t>Via the network for more genera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List of European NCP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ordis.europa.eu/fp7/ncp_en.html </a:t>
            </a: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(choose “Mobility” for the Marie Curie N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18D-01E7-4F5F-BDE7-FA2D22650C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D5DD0-39AB-4335-91C8-74BDDEC3A28C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08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P7 National Support Structure and Irish FP7 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943280"/>
            <a:ext cx="7561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6600"/>
                </a:solidFill>
                <a:latin typeface="Arial"/>
              </a:rPr>
              <a:t>National network of FP7 NCPs (all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Support to applicants across thematic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6600"/>
                </a:solidFill>
                <a:latin typeface="Arial"/>
              </a:rPr>
              <a:t>National FP7 Portal at www.fp7.i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Information on calls, events and other relevan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6600"/>
                </a:solidFill>
                <a:latin typeface="Arial"/>
              </a:rPr>
              <a:t>Register to receive updates in your area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 Irish Universities Association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7F1-2851-4063-9EF8-23F908236E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AC784-E304-4F1D-81C0-218B23F685EC}" type="datetime2">
              <a:rPr lang="en-US"/>
              <a:t>Thursday, 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3:24:39Z</dcterms:created>
  <dc:creator>Dr. Dagmar M. Meyer</dc:creator>
  <dc:description/>
  <dc:language>en-US</dc:language>
  <cp:lastModifiedBy> </cp:lastModifiedBy>
  <dcterms:modified xsi:type="dcterms:W3CDTF">2009-04-07T17:10:44Z</dcterms:modified>
  <cp:revision>248</cp:revision>
  <dc:subject/>
  <dc:title>Slide 1</dc:title>
</cp:coreProperties>
</file>