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D47-FB3F-4C9D-A538-E4D13DAC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74B-F4D2-4D0B-B950-E6F9A30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368-E5CE-40C3-A95E-1B3855B7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DA1-7200-4A1F-9047-65F7A87F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89C-63C2-4BC8-850C-6A7EFE5A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427-99E1-4D93-84AF-228288A8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E28-1711-4D8E-B036-B33F153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475-D110-48BD-AF4A-D38D9A7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218-8F1C-45B7-AF38-6E5D074D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234-A90C-4FA4-92A9-30A909C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08C-E08A-4AC1-AD0F-0CB60DE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AED-5E18-4CC8-A9B1-C44155A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7</a:t>
            </a:r>
            <a:r>
              <a:rPr b="0" lang="en-US" sz="900" spc="-1" strike="noStrike" baseline="30000">
                <a:solidFill>
                  <a:srgbClr val="969696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 April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73FF-EE23-4BA6-B061-0892AEE02FEC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gmar.meyer@iua.ie" TargetMode="External"/><Relationship Id="rId2" Type="http://schemas.openxmlformats.org/officeDocument/2006/relationships/hyperlink" Target="mailto:conor.ocarroll@iua.ie" TargetMode="External"/><Relationship Id="rId3" Type="http://schemas.openxmlformats.org/officeDocument/2006/relationships/hyperlink" Target="mailto:mariecurie@iua.ie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068640"/>
            <a:ext cx="745308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ssistance and support for IAPP applic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PP National Info Day                                              7 Apri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r. Dagmar M. Me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arie Curie National Contac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28000" y="64008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iua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08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rie Curie contacts in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8000" y="2060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IUA Marie Curie Office – National Contac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r. Dagmar Meyer (</a:t>
            </a:r>
            <a:r>
              <a:rPr b="0" lang="en-IE" sz="2400" spc="-1" strike="noStrike" u="sng">
                <a:solidFill>
                  <a:srgbClr val="236441"/>
                </a:solidFill>
                <a:uFillTx/>
                <a:latin typeface="Arial"/>
                <a:hlinkClick r:id="rId1"/>
              </a:rPr>
              <a:t>dagmar.meyer@iua.ie</a:t>
            </a: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r. Conor O’Carroll (</a:t>
            </a:r>
            <a:r>
              <a:rPr b="0" lang="en-IE" sz="2400" spc="-1" strike="noStrike" u="sng">
                <a:solidFill>
                  <a:srgbClr val="236441"/>
                </a:solidFill>
                <a:uFillTx/>
                <a:latin typeface="Arial"/>
                <a:hlinkClick r:id="rId2"/>
              </a:rPr>
              <a:t>conor.ocarroll@iua.ie</a:t>
            </a: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236441"/>
                </a:solidFill>
                <a:uFillTx/>
                <a:latin typeface="Arial"/>
                <a:hlinkClick r:id="rId3"/>
              </a:rPr>
              <a:t>mariecurie@iua.ie</a:t>
            </a:r>
            <a:r>
              <a:rPr b="1" lang="en-IE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+353-(0)1 676 4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Enterprise Ireland – National Contac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Focus on Industry - Bill 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1c6445"/>
                </a:solidFill>
                <a:latin typeface="Arial"/>
              </a:rPr>
              <a:t>bill.kee@enterprise-irelan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+353-(0)1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727 22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0DE-2B81-455D-9DA4-ED6ED3D0B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3CE8D-BC85-4869-A11F-7BA0EA63CA6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Seminars and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978200"/>
            <a:ext cx="8569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Organise info days, workshops and special sessions at other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Seminars on IAPP and Individual Fellowships and Grants in April and May 2009 (open to external participa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Check the Irish FP7 Portal (www.fp7.ie) for dates and det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Can also run tailor-made sessions on demand </a:t>
            </a: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if there is a critical mass</a:t>
            </a: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F0E-0E89-482F-9499-E8D3456D84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6CFE0-EBE5-4B98-9F0C-A69FCCA2F0E7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Individual as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798200"/>
            <a:ext cx="856908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Customized one-to-one support before and during proposal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iscussion of project ideas </a:t>
            </a:r>
            <a:r>
              <a:rPr b="0" i="1" lang="en-IE" sz="2400" spc="-1" strike="noStrike">
                <a:solidFill>
                  <a:srgbClr val="996600"/>
                </a:solidFill>
                <a:latin typeface="Arial"/>
              </a:rPr>
              <a:t>(Is IAPP the right programme for you? What other options exi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Advice on eligibility and other technical iss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Pre-submission proposal checks (feedback on draft proposals, </a:t>
            </a:r>
            <a:r>
              <a:rPr b="1" lang="en-IE" sz="2400" spc="-1" strike="noStrike">
                <a:solidFill>
                  <a:srgbClr val="996600"/>
                </a:solidFill>
                <a:latin typeface="Arial"/>
              </a:rPr>
              <a:t>first-come first-served</a:t>
            </a: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Assistance at negotiation and implementation stage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Clarification of questions related to financial procedures (e.g. eligibility of specific cost items)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5DB-776F-4DBE-A78A-28160E8ECF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F93D7-00B4-44CF-BF01-F0744B2DF7D9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Direct line” to Com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1943280"/>
            <a:ext cx="828036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Clarification of specific queries and issues on a case-by-case ba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Recommendation as expert eval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Register as expert through FP7 website on CORDIS (https://cordis.europa.eu/emmfp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Contact your Research Officer or equivalent to be recommended by I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Feedback to Commission on your experiences (good and bad!) through NCP Network and Programm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4EA-92C7-4D73-9D54-310040A4AF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BB812-649D-46BD-A0F7-B330C8A3BAEC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European Network of N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1798200"/>
            <a:ext cx="82803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Network of National Contact Points in all EU Member States and Associated Countries, plus certain Third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Help with </a:t>
            </a: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partner search</a:t>
            </a: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 for you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irectly through partner NCP if you’re looking for a partner in a specific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Via the network for more genera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List of European NCP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ordis.europa.eu/fp7/ncp_en.html </a:t>
            </a: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(choose “Mobility” for the Marie Curie N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A68-66D2-4336-8273-BB75D03DAA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3B8C2-E44C-4D65-B0AA-FF52B1DE6A2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08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P7 National Support Structure and Irish FP7 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943280"/>
            <a:ext cx="7561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6600"/>
                </a:solidFill>
                <a:latin typeface="Arial"/>
              </a:rPr>
              <a:t>National network of FP7 NCPs (all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Support to applicants across thematic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6600"/>
                </a:solidFill>
                <a:latin typeface="Arial"/>
              </a:rPr>
              <a:t>National FP7 Portal at www.fp7.i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Information on calls, events and other relevan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Register to receive updates in your area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6D-EBF7-49FF-AE6C-18954ABF75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CEDE0-ADF4-4834-BC58-459D2CAF1493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3:24:39Z</dcterms:created>
  <dc:creator>Dr. Dagmar M. Meyer</dc:creator>
  <dc:description/>
  <dc:language>en-US</dc:language>
  <cp:lastModifiedBy> </cp:lastModifiedBy>
  <dcterms:modified xsi:type="dcterms:W3CDTF">2009-04-07T17:10:44Z</dcterms:modified>
  <cp:revision>248</cp:revision>
  <dc:subject/>
  <dc:title>Slide 1</dc:title>
</cp:coreProperties>
</file>