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dt" idx="8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ftr" idx="83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 type="sldNum" idx="84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B99-7CDB-46B5-AE22-BF095D78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4C8F-5FBA-4CC7-AA68-73FD7C82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443-75A6-4BD3-AD00-943878F8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193-04CC-4C60-939A-8A65A388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6C0A-47DD-443C-997B-F0069F60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ACBC-AFC7-488D-B5CC-F659FD75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2F91-801F-4BFB-AE7D-E8C9CA4F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0D46-C9B7-408B-84C9-9059EF9D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8777-F76D-4A98-8AA4-63156E15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63A-EE0E-415D-A32E-92AB4C021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346A-605F-4AA6-B3D6-CACF2B5D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2827-8104-4650-A5AA-2A615A5BC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E8A3-7A1A-442D-8DD6-FE77CF1C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A0F-EFFC-4A10-8F96-BE0F3E87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8D68-BB89-4A56-BC66-2DB375E7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4593-BA0A-4891-B841-36883BC7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ECB8-5EC4-4AC3-A05B-2EF36670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529-6A23-48D8-8527-EECF3D4AA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E65-0EDB-4E91-AA9D-63D62E69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EF7-813A-4107-B826-78400B4DA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00A-BEEC-4F65-912E-8BDFE07F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2606-0534-4E62-9CDC-6C8F07BB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160C-3B05-42EB-8AB7-662F149A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B06-3755-41E1-BAB4-3C6F4512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3A4-A707-4647-A3FF-F431554B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5C7-2C34-4E4A-B562-628F7DD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8DC6-D04F-4A46-8AAC-DF42CBD2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E20EB-60A0-4E74-A866-32BAAB2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E7B7C-50D2-4381-A802-115DB77B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6784-8618-4F9B-9CE7-3F32B3A0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F8C3-95EF-43F1-949D-12C5C32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544A5-DD67-461F-B59F-55DEB4F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85EB2-895A-4764-95DC-B067038A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061C-552F-4154-88B1-250B9AB4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FE096-3FC3-43BC-AD7B-34CDAD3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923B-554B-46E5-8660-9F79E173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30A-4529-4DDD-95E2-9B0345FB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1A62A-DF48-4113-9DF2-AB65D1C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96165-5EF6-4524-B869-A7321428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BD8EB-B264-446B-A2C3-2DBAA574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BB4D0-7806-4425-8B2A-A9BC542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EA839-9DA5-4F8D-873D-169BD04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66A2-E713-483C-A3BF-D0786A7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77A18-8700-48EE-B31E-0A1C6E6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2B36A-F160-4AF2-9EB4-EAF5DB1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19646-D217-43DD-8C40-19A5CBE4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0A67C-F70A-4DBE-880E-9C47C32E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69B-9E17-4E88-8B8D-5AB3D852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E54D4-63D2-4AFD-8CEF-88EE28D2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0AD2D-F713-42A1-963F-743FE8D3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859F1-03EF-4E0A-B425-EE7F536F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71B2-0892-4FDE-BCE9-1BEC9FC0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4441B-F1A4-4DBE-A028-56847BC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219A6-73F1-4C4D-882A-708DA5B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0DA7-12F4-424D-BD1F-DDF721A1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BA523-CB5E-4F6E-BAE9-1EBC9CF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EFD46-EEE6-4A02-A21C-870CE93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6F83F-304C-4DD6-ADA5-1CE95501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07E2-4FB8-47D2-B495-A04B1A3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47E1D-9DFA-4636-9382-30C4FE9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41CD6-C596-4F13-BCDD-10C2B520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09B2-E830-42FA-A68B-75D8F935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17CCE-6E74-4AEC-9CB5-EC0FFDA1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6EEAB-68C8-427C-B022-061C0C1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3DFAE-659E-468E-ADDD-8B6A2E1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8DA4B-A669-4FC1-9997-CE5221E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61E2E-A105-4A7F-B736-052FA5B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3C7AB-6C1F-47B4-B3B0-52FDB1C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68AB7-2014-4031-9886-F5F94DD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F3B-0028-4CE9-9FB2-1BE0F1FA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832C9-1A09-497A-BB3A-5FA92AB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31402-CD63-4E30-ABD0-8C67AFE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9003B-41EF-454F-ACAF-3DA19E3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1A3DD-A23D-43FF-B45D-826D2999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0F57E-9599-41E2-8021-797EF96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5CE70-8DA6-4A44-8D49-7A367946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D3219-3905-4A67-A4D5-19D149A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F6D65-4A6F-421C-94E3-89D4168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A0AA7-98B5-4212-A197-B136551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14369-D82B-423A-8CF9-7E1C90A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20E-B752-4C08-8558-CAAA843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4E3C1-50E9-4793-A3A9-4C4D206A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7B5EB-DA2D-40A9-9C3B-2E90E9D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ADC7F-BF9F-4AB8-BF02-F25AA76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0ED2D-719D-49D6-9FCB-76E34F0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BA5D0-C549-46AE-B95C-8E0BF39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B201F-F1BA-4D8E-A3E8-74B5C70B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9C6C5-2CED-457D-B55F-70704669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4006-63CA-4415-977C-36A14A1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7F9C1-51E2-4FAE-B983-50CD79C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530-09A1-47A3-A8C1-B0399CBA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F7802-1189-4378-87E4-9196BF3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86736-6A87-405E-BCAC-375C0717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17CE5-E589-4898-BF3D-F2FD6D4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11993-98EC-4E79-BC0A-2ED2CE4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8D0BE-AC81-42FD-8AC0-45C5A69A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07E59-9A4A-4205-B857-6E5F17B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6F5F6-53A6-4D88-AC50-73E1445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3CF7B-E13D-46F6-9DBE-460B0F1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2F9C8-D236-4AEE-8FA7-AF400EA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39295-D054-43EC-9E70-23723DE7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E863-B0EA-4349-90F5-8A72E82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0786C-7FC1-4786-A95C-BAAF5E6A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ECED6-9E00-4DE5-9307-AB5FC507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666D7-9F5D-4281-81DF-C2B9F4A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3BB93-C812-4A9B-91B7-5025963C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F7092-4441-4B84-81F7-A806E8E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02540-C099-4A77-99F8-F0994E0D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E860A-0D12-4377-BF93-ADCB89C1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6C7D8-357C-428B-A665-7051CDA6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C9DAC-06B6-4240-BAE0-67B6559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8F46F-2447-4A7F-93F8-629AE5C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994-A455-4641-9544-6FD32F4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8C3C7-5826-425E-8152-E51A6B33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34E94-D7A3-42D0-8D07-F245A7A9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6E11B-C794-4981-8C01-D36FFAB8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850A8-DD59-4588-8EAB-55708404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16E75-6814-4ABD-B4DB-31477FC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987DC-C4CE-482A-AB48-BB142DAE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488DE-C6CE-4C59-99FA-D75AC299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66469-E626-44FA-B375-D4B9B89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57DBC-5AE1-42F8-BDF5-AA90CE3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2A004-F6E8-4B31-9E25-C1668F7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490-1C37-4750-ABE7-0B23B5C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E108-4D93-4A1A-85FC-48A839F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B80A0-2B69-487B-B211-9A629BC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13AB8-9B76-41A7-8B55-9F92C55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07709-991F-4DE2-82B1-07678E95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C8956-B132-41CD-AEC1-C60457F2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186F1-8392-4E24-A273-B996FE9A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126A0-4C49-49ED-AF55-D284930E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BD751-A20F-4072-BCA5-B234593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605DF-E355-4BE0-81C0-DA315993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92FB4-A4B4-4E71-BFC6-986E2D3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F5BCB-EFBB-42B8-A956-3E5FE89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B491-CA8F-4E72-8572-91C5FB3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CF43E-CDFC-41E4-A598-26B4EF6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45AB8-58CC-4E9B-B191-4F2CECB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C0373-F11D-4696-BF41-A4D34A3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A8812-0116-4D07-959B-73923F8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83D20-155A-457F-83A1-B1B7C19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715F8-46D1-4D1F-8A4D-34882999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D0773-4A35-40DA-B50E-4A660576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B7FB7-E176-454C-B3A5-0FB8D6A9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1471B-9EF0-4ACD-97C0-AAB9480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876C3-3031-46EE-96CA-244369A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172-0B18-4364-8358-46967102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D7473-4416-493B-810E-32738E47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42E84-7A08-46A9-BA64-9B2A16B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5409A-7EAA-44AD-9F78-4E9214E4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46012-53B7-4CEB-8743-61A0333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C32EB-B283-4707-89DE-37D3377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CFDFA-5017-46FA-B587-3562E46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95AB5-A249-46BD-9968-5F90B82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A16EE-255F-437C-B7CB-0DAF5547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F89DF-FCC3-4AC2-8689-BF001FA3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F1CCA-68CC-44A5-9F9E-50B5B613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551-FC3B-40B5-AB55-0F1AC24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21FC8-5DE3-491A-A4B3-CF0FF92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493AC-8600-4F72-8E63-DB61C54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81D6A-6952-4A53-B1A5-D93CBF2E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CC833-62E6-4A48-9E41-33B3A5A9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790BA-E681-42C3-AAB5-3508D3CE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25423-C4CD-4505-AC9E-FC6F6D6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7728A-14C0-4840-84A8-92C037A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8F092-6342-494E-BA3E-EC69510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22D52-2717-4A18-8D0D-BB5D5DC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69DF2-C85E-4136-9725-6BCE6D9F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02D3-E41A-4540-A2C0-AE074CAA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084C4-B5BC-4F3A-BEB0-6A704C1B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89BD1-C1C8-46FC-BAB2-E930EF56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46027-7685-4C51-AA50-477FFAA7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FD091-6716-4F02-B382-E199453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56B04-34BE-432D-A14A-B2C00D3C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E5EA0D-C11F-4B24-ACA4-4DA6CF0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5D8E0-6887-4C81-B017-2998C8DB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4488F-E94F-43B1-89A2-F2E7504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E4741-5A70-4095-BBEE-C2E7C05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9994B-5F5E-4828-A529-F8ACB068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D07C-7B3B-49F6-B61A-D025240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BBC68-1AD7-4D8E-AB95-61480FA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9373C-0AD2-4475-A508-DBF660C5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A7B3E-8B61-4FB2-96A0-34AEA207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5E667-610C-4A04-8140-4E557A3E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CA12B-6D9B-4B39-8F18-DAC6C397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C8626-26AF-469F-8401-282F77A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777C6-E876-465D-AA1B-215BC3A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2F42A-9A7E-4882-8782-DC59E36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89A53-4CCA-48E5-B5C2-27BADB9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15CEB-7F2B-4988-A96B-3583B2A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614B-F50E-46CF-A36A-F89922EA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50A14-E412-4F7F-9C1C-4B8C0852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A96E7-AFB2-4303-B5E4-C304662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E0E77-2190-4111-AC47-102B528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D8D03-2F75-4962-ADBE-966E7A04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A5299-7C0E-406C-A188-B1510A37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55871-4C9F-44F0-A5FC-2BAEA27F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D3D6FF-FBB8-4C13-926E-326168C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5FD89D-40EF-4071-87B9-A2574AAE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80302-124F-451C-9A1B-B1895605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50F7F-3C5F-4C7A-9973-A041EBF3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7F4D-1C62-45AB-82A8-C800E51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BBE48-5770-4836-98DB-D8DD0E2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E849BC-05A2-4F45-85F5-653EEA3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2F58DD-D07F-45CB-9249-208F25C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4532E-3B31-4873-89E6-016D90E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68E0A-07F5-4D45-A5AF-4CFC9F9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0C506-8CD5-4A87-853A-7FAB6578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34CD39-D917-447A-846D-32A3B912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F10DFC-7BFE-4A34-A3FE-6495D546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A82F3-83D4-4957-8D29-5862D3A1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C7A698-E95E-4AE8-8C1A-095A25A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37B8-0BF7-447B-BFAB-71FF96D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0E3BE-3DB1-4BA1-AC65-D0F3210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1FD3AF-E5F0-4826-9FD9-B5656F82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A77A1F-1795-42EC-B92C-F838964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31DC9-5936-4664-9222-C060174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2D59E-EEB3-4A22-82C6-9AAD38F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F92E4C-E682-4C6C-B449-B84183E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89C63F-EC2F-42D2-BE74-45FC0BCA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D2D96-3289-4D03-8D79-71D9ED7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5A7EB-82CB-4802-ABD1-4CE2869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8EFBEB-BD78-4B21-A3FD-B50F196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8671-7BE4-4859-B8A3-2D8DC2B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D6A6F7-6C40-468E-8D4E-4B2F21E2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3FF87C-B940-43D2-84A7-D2F660E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44B4F5-C1AC-4E46-95AE-9496C9BC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793AB9-7DFE-4EE6-8FAC-B61B0E3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6CE52-6C52-4457-8267-85BD1D3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E9A778-A674-4265-91EC-50E12C9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32B95C-6DFC-4B3C-A3E8-5D3AA10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AA6A3-B75F-4CB8-81C6-EED3B6C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868944-172C-4931-997A-3F6166B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8191B-7A4E-402B-BEE9-B1CF87F0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F21-F4B0-4703-B0A2-0B862E2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1069-633D-447C-B36A-9947FF27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7AD459-7DC1-4CAA-AE51-A70D7F96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A0F9EA-CD3B-44C8-9EE0-E0AFAC02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7E8AD7-4606-4BFB-AB6C-A276C42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2E02BC-DC56-4176-964A-77AABEF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AA983E-C976-4440-AD88-9C4E2684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971183-E4AD-450A-923D-72CBEA9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51246-37B4-46E1-92BD-796BA28E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073EF0-3380-455E-9FCE-B44774C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937D7F-E525-442E-B95B-EA9165A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F6B582-3985-4B8E-B813-0BAD3D4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F897-D5D6-4D0F-97C4-A8CE56C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65834-220B-4E3F-B61F-EA0E7105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2B6835-C22F-4457-BC41-3968D5D3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5DA2C7-920D-49A3-AAF0-D5D2E138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E555C3-4780-4A4A-93D0-3EF1FF10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CE6F9C-2A37-4D4A-B99D-12EE373A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472AD-1C3B-43B3-9AC5-A5545C43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A5C04-52BC-40FE-B73E-212EFC5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AEB0C3-96F3-46D5-A19E-6C0EA66C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934980-82D9-467B-99AE-C111440A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8852D4-8512-4092-82C7-051FE0A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012A-F7AD-4392-982D-E4A7FF9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5E092E-7980-4C76-A885-83B4468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598FBF-74AB-4297-B17A-E78FE27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EC2D9D-072F-4A55-9BD0-16580E6C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E12C1A-7708-404B-B288-C1BC322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3632E-DD7D-4EF1-83D5-9A9859BB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7A8D63-08F0-4FB3-8BE0-85FC0638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F8D3C7-A576-4C4A-95B2-801BD1B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24141C-3422-4F7F-A785-33CC60D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5AC1E-53C8-4EEF-9A50-CCFB16B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721E3-CD3E-40D3-8C18-A279BCD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06FB-31B1-4E4A-A107-D2B2389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32A594-3999-4E44-BD8B-C545C99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9B633A-70D6-4D58-8FD0-28783C5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6EAC24-7E1E-4C34-A135-0823384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35A39E-5C73-4E3E-A879-0C8FF22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8992C4-8A34-4E13-B56B-E20B5E9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BA9F8A-D991-4DE1-920B-2D6D5FE9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98C0C-E019-4D0D-B83E-7BD13EEB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1B73-E6A0-4371-BB1E-63B8E77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D5FC-C293-4713-A633-CBFFD71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D85B-D0B0-49E1-97CB-CFBE07FE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0063-7D4F-43A1-95F0-AB2479C2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9BCA-D32A-48FC-9610-0C9C3E3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5393-F4AA-4AC8-B74E-F820BC1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6B2-A0EF-408B-B61F-A1BF41A4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36C4-CD70-45FE-9816-326A4BE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47AE-F0DB-400B-AC74-EB2DFB7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E1CC-A087-4C7F-BE26-58B4FB4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29F7-AAD6-4BB5-B735-093E88D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B27A-9F17-4BEA-84A2-5978322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0D67-5482-4607-B861-C0F3AA8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3BBE-3806-4201-BAAF-BDA0DDB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031D-9F6C-4872-9E4E-82BD943F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6357-563D-4947-ABD9-08540DC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2FD6-FCE3-41F2-80B0-FD4B55B5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3DA-A959-428A-8D22-EA2B288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4A19-83B0-4C4A-B283-7C15775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C037-7300-4B23-AB32-52CFF441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8995-7CD7-446B-8ED6-F66AB627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5110-4B61-4B22-BE21-2E57C49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0EB3-4672-40C7-B5B5-FFD458E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CFA2-B03A-4769-9242-B452D0F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33D7-108A-4056-BAA2-FB87A2C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2060E-6034-4C26-870D-A185583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FFE8-48E0-4FC4-BD89-7FD79ED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77D3-7B25-49DC-9943-D9200184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CD2-6F33-43BA-8308-A0DEC49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37E5-A754-410B-93F9-EB1A9F35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9696-A562-48BA-9460-D287E83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52C2-EB17-4B9C-80B5-7588E8E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DF1D-AE79-4E74-A050-E0B14921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A54B-F9AF-4BED-B606-B10FBED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15D6-377A-4897-9713-BC61EEF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2D02-0426-4C62-97BE-4491357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DEFCC-D7F5-4484-83EC-8758F04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9562C-44F2-49A6-926D-00E8DCA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42ED-425F-47DF-8B71-B6B26D6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409-E677-41EE-B183-A2AB0EF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ED69-689C-457F-88D2-67A543E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B6B0-1182-4AE4-8FD0-23933808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8239-7FA7-41C0-AF70-4AB26F86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97FC4-B2E0-45F3-9669-924D4B97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3021-E871-43E5-AD31-9B07947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727E-5751-452C-8EC9-7EBB541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3148-E797-4338-BE49-223E3A88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FBAA-FAAF-44C3-906F-9FA19CAA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6F8D-D61F-401F-BAD8-2C128DE4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7193-B03C-457D-93B4-3AC1951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FC0-B42D-419A-9E86-6D67AE3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015DB-8A80-46F7-878A-290ADB1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1AF1-DDE9-4209-9795-ADBE98F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8D6A-52CF-47AC-B8BD-E224E6DB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94DE-EC3F-4855-AD0D-339BC84F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13C68-C4A8-4368-A9C2-3A9AB4A9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6C44-12EF-4F40-BC1C-8E956C14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E721-29DC-4902-9C9A-A047D89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9D95-9A6A-4D76-8DCB-F4D7F2FD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CD3C-EA03-4C6E-9654-BBC75FB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9DCB5-3BC0-4768-85B4-66020D0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CBB-328B-43E7-A771-88D7D97D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99B8-9E45-43B3-84C2-9018583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9C87-E993-4A50-948D-A0344DE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F11B3-CFF1-4CF9-9A24-C0D94B16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1B3D-83EC-4F6E-AEA9-BC346E9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48A3F-2B49-4EC7-82F5-A1E4FC8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E34C-FDD2-491D-A8F7-B5D97746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7C8C0-F584-4688-80A7-CB1E86AD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10046-F9B7-4A63-96FE-2490255E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82191-83C9-4A72-AB90-8F2F7A6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674F7-A56F-4998-B14C-1636DC3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0904-FDC7-4C37-A663-3FEACBC02A30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BC1-A2D6-4FFD-B660-D4E900A1FE6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dt" idx="2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90B-9525-43B0-8659-44A6A7F67EBB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3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2949-AB5E-43E1-A1E3-055496615A4A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dt" idx="3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9C8-13DB-4051-AC2D-7137F006843A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3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416-2719-460C-97A3-ADF3A8F441EE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B9A7-761E-4253-B55C-859EE53A65B5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2A57-9C81-461A-A3F1-2DF902BFE98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dt" idx="3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B3AA-C62E-4062-B5C0-3A04555103EE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ftr" idx="3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5A47-DAB6-41D6-B482-125C23513AB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IUA PP Screen 1a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dt" idx="4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2E13-B892-46F3-87BB-F5A17B44791C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4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4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59F7-3A68-4C92-92F5-01E5370BD6F1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dt" idx="4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E1E-5347-4F1F-9609-8DBDA39D20E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ftr" idx="4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4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C40-4C4D-4EB5-A6F5-DB9AE97ADE76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dt" idx="4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F45-76BA-49D2-A18A-DF241994CA15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4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4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BE0F-5AE1-45FA-8290-8B1970E5200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dt" idx="4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307-1803-47F1-808E-F0585044D62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ftr" idx="5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5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ACB-72EE-4842-B13C-736D664CC76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dt" idx="5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C95B-152F-4A3A-825C-EBBC40F1360E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5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5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0C9A-1474-4C19-9CE9-D28252E58E4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4363-D916-40EA-9418-ED69710594BD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3C8D-7E74-437B-B5C9-B78B52193FD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dt" idx="5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7F1-3B29-444E-8AAD-F6F3857D8A50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5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5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1D7E-5552-403B-A397-3C909BE03F2F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dt" idx="58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6E2-C5D8-4F9E-B920-6DF647BB83A3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ftr" idx="59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sldNum" idx="60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0DC-4E97-49D1-9D19-0181C020ABA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 type="dt" idx="61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CA8-3405-485D-9DAA-DB5BC7EAC97F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6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sldNum" idx="63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41A-1601-4093-9A40-7257DE47F1AF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dt" idx="64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329-5CF1-4147-BB72-A6BEFA0FD6D1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ftr" idx="6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66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533A-1FC3-4EBD-B245-20F584091FD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dt" idx="6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26B-94D0-45BB-8059-276720BEB16D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ftr" idx="6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Num" idx="6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80B-C7C4-416A-A560-D0A4B1BBD5CD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dt" idx="70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759-D4D7-430F-A241-80E400B31B4E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ftr" idx="71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72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A684-E592-49AD-87ED-DA6554463FAE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dt" idx="73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EB4-78B5-4F25-AC19-F9092A270023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ftr" idx="74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sldNum" idx="75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37C3-A156-4202-8F57-274B0E43D29A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dt" idx="7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ftr" idx="7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rish Universities Association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7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F3F4-00B5-4079-9776-ECE2B3F7D87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C23-1406-4A04-ABC3-AB2D2224D177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donderdag 30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C32F-3DC7-4E61-80A5-998308AD282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876-C44F-49C5-A3D9-5FE3EF6F4E7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9E9-49F4-4A7E-8A47-026F0ABCE037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173664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9152-0677-47A1-BE18-E2D9BB6A996A}" type="datetime"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377880" y="6597360"/>
            <a:ext cx="3281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9E2-D0A6-4B99-99DA-6BA818FE3B3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8000" y="907920"/>
            <a:ext cx="8640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154764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cirkel"/>
          <p:cNvPicPr/>
          <p:nvPr/>
        </p:nvPicPr>
        <p:blipFill>
          <a:blip r:embed="rId4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terbullet"/>
          <p:cNvPicPr/>
          <p:nvPr/>
        </p:nvPicPr>
        <p:blipFill>
          <a:blip r:embed="rId5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irkel2bullet"/>
          <p:cNvPicPr/>
          <p:nvPr/>
        </p:nvPicPr>
        <p:blipFill>
          <a:blip r:embed="rId6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spiraalbullet"/>
          <p:cNvPicPr/>
          <p:nvPr/>
        </p:nvPicPr>
        <p:blipFill>
          <a:blip r:embed="rId7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8"/>
          <a:srcRect l="16071" t="13713" r="1733" b="12609"/>
          <a:stretch/>
        </p:blipFill>
        <p:spPr>
          <a:xfrm>
            <a:off x="108000" y="5954760"/>
            <a:ext cx="136836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63640" y="907920"/>
            <a:ext cx="6697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908000" y="5805360"/>
            <a:ext cx="0" cy="1052640"/>
          </a:xfrm>
          <a:prstGeom prst="line">
            <a:avLst/>
          </a:prstGeom>
          <a:ln w="38160">
            <a:solidFill>
              <a:srgbClr val="251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irkel"/>
          <p:cNvPicPr/>
          <p:nvPr/>
        </p:nvPicPr>
        <p:blipFill>
          <a:blip r:embed="rId2"/>
          <a:srcRect l="0" t="59785" r="0" b="-3202"/>
          <a:stretch/>
        </p:blipFill>
        <p:spPr>
          <a:xfrm>
            <a:off x="250920" y="0"/>
            <a:ext cx="2089080" cy="981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sterbullet"/>
          <p:cNvPicPr/>
          <p:nvPr/>
        </p:nvPicPr>
        <p:blipFill>
          <a:blip r:embed="rId3"/>
          <a:srcRect l="0" t="53288" r="0" b="-3729"/>
          <a:stretch/>
        </p:blipFill>
        <p:spPr>
          <a:xfrm>
            <a:off x="2556000" y="0"/>
            <a:ext cx="1938240" cy="981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irkel2bullet"/>
          <p:cNvPicPr/>
          <p:nvPr/>
        </p:nvPicPr>
        <p:blipFill>
          <a:blip r:embed="rId4"/>
          <a:srcRect l="0" t="54990" r="0" b="-3591"/>
          <a:stretch/>
        </p:blipFill>
        <p:spPr>
          <a:xfrm>
            <a:off x="4716360" y="0"/>
            <a:ext cx="2011320" cy="981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piraalbullet"/>
          <p:cNvPicPr/>
          <p:nvPr/>
        </p:nvPicPr>
        <p:blipFill>
          <a:blip r:embed="rId5"/>
          <a:srcRect l="0" t="54974" r="0" b="-3605"/>
          <a:stretch/>
        </p:blipFill>
        <p:spPr>
          <a:xfrm>
            <a:off x="6948360" y="0"/>
            <a:ext cx="1952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6"/>
          <a:srcRect l="16071" t="13713" r="1733" b="12609"/>
          <a:stretch/>
        </p:blipFill>
        <p:spPr>
          <a:xfrm>
            <a:off x="108000" y="5805360"/>
            <a:ext cx="1655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557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13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513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763280" y="2781000"/>
            <a:ext cx="705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5137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2050920" y="6597360"/>
            <a:ext cx="1641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79F-7C3E-4F48-AF4E-BC6D5FEDAC2E}" type="datetime2"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donderdag 30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92160" y="6597360"/>
            <a:ext cx="2994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686640" y="6597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A47-3936-4F6C-AEA2-BD3D993A1D0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6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0BD5-5F91-4134-A53D-4ABB2826B5B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8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BDD-E1F6-4A37-B16C-B9EBA9450175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dt" idx="19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E963-E20A-41C9-B134-A555D4AFA4E9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1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C8A6-33B9-4507-9ADB-D057BA4178D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22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340-5FDB-4BB2-A780-DF530660227D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4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1586-442D-4067-A769-778A05E41001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IUA PP Screen 2b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dt" idx="25"/>
          </p:nvPr>
        </p:nvSpPr>
        <p:spPr>
          <a:xfrm>
            <a:off x="358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51F-884D-45A1-B463-26DDDF001FCB}" type="datetime2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Thursday, 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An Irish Universities Association Pres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7"/>
          </p:nvPr>
        </p:nvSpPr>
        <p:spPr>
          <a:xfrm>
            <a:off x="68371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56A4-744C-46FA-B42A-0252D84065D0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rdis.europa.eu/fp7/dc/index.cfm" TargetMode="External"/><Relationship Id="rId2" Type="http://schemas.openxmlformats.org/officeDocument/2006/relationships/slideLayout" Target="../slideLayouts/slideLayout28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2"/>
          <p:cNvSpPr/>
          <p:nvPr/>
        </p:nvSpPr>
        <p:spPr>
          <a:xfrm>
            <a:off x="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FP7 Marie Cu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Initial Training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Dr Conor O’Carroll, I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"/>
          <p:cNvSpPr/>
          <p:nvPr/>
        </p:nvSpPr>
        <p:spPr>
          <a:xfrm>
            <a:off x="321120" y="6400800"/>
            <a:ext cx="208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dnesday, 29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8028000" y="64008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iua.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764-49EF-4825-A018-6BC0F0A4CAF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Who are the particip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Organisations that are </a:t>
            </a:r>
            <a:r>
              <a:rPr b="1" lang="en-GB" sz="2800" spc="-1" strike="noStrike" u="sng">
                <a:solidFill>
                  <a:srgbClr val="1c6445"/>
                </a:solidFill>
                <a:uFillTx/>
                <a:latin typeface="Arial"/>
              </a:rPr>
              <a:t>actively involved in research and/or research training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Universities/Institutes of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Private and public research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Companies big and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International Organisations (CERN, UNESC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The European Commission’s Joint Research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NG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67C-BE91-4999-B154-9AB014D87FE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"/>
          <p:cNvSpPr/>
          <p:nvPr/>
        </p:nvSpPr>
        <p:spPr>
          <a:xfrm>
            <a:off x="324000" y="108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Which countries can the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96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27 Member States (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12 Associated Countries (A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celand, Liechtenstein, Norway, Israel, Switzerland, Albania, Bosnia-Herzegovina, Croatia, FYR Macedonia, Montenegro, Serbia, Tur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Third Countries (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More than 140 International Cooperation Partner Countries (ICPC) – can receive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Other Third Countries (OTC) – normally self 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Date Placeholder 4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ooter Placeholder 5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6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D32-7834-4BAE-8AE5-2F13A0CD82A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ypes of IT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610920" y="5373720"/>
            <a:ext cx="7561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NB: There are </a:t>
            </a: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no “twinnings” anymore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(ITNs with two partn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No more than 40%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of the total EC contribution may be allocated to the benefit of organisations </a:t>
            </a:r>
            <a:r>
              <a:rPr b="1" i="1" lang="en-GB" sz="1600" spc="-1" strike="noStrike">
                <a:solidFill>
                  <a:srgbClr val="1c6445"/>
                </a:solidFill>
                <a:latin typeface="Arial"/>
              </a:rPr>
              <a:t>within one country</a:t>
            </a:r>
            <a:r>
              <a:rPr b="0" i="1" lang="en-GB" sz="1600" spc="-1" strike="noStrike">
                <a:solidFill>
                  <a:srgbClr val="1c6445"/>
                </a:solidFill>
                <a:latin typeface="Arial"/>
              </a:rPr>
              <a:t> in Multi-site IT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684360" y="1916280"/>
          <a:ext cx="7704000" cy="3281040"/>
        </p:xfrm>
        <a:graphic>
          <a:graphicData uri="http://schemas.openxmlformats.org/drawingml/2006/table">
            <a:tbl>
              <a:tblPr/>
              <a:tblGrid>
                <a:gridCol w="1960560"/>
                <a:gridCol w="5743440"/>
              </a:tblGrid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Type of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Country of Participant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ulti-site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≥</a:t>
                      </a: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3 Participants from 3 different countries (MS or A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- Additional Participants: MS, AC, ICPC or OTC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* Funded only if a special agreement between the country and the EU or in very exceptional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ono-site IT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Requires very well established network of transnational collaborations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1 Participant from MS or 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2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ooter Placeholder 3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4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6A0-38BC-46F6-9B0C-59571DC41F4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324000" y="324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Partner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468360" y="1844640"/>
          <a:ext cx="8207280" cy="3859200"/>
        </p:xfrm>
        <a:graphic>
          <a:graphicData uri="http://schemas.openxmlformats.org/drawingml/2006/table">
            <a:tbl>
              <a:tblPr/>
              <a:tblGrid>
                <a:gridCol w="2663640"/>
                <a:gridCol w="4319640"/>
                <a:gridCol w="1224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Full Network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Offer research training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recruit</a:t>
                      </a: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 eligible resear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Lev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Associated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Provide research training,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complementary skills courses,</a:t>
                      </a: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(communication, enterprise cycles, innovation, IPR, …)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second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Le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Members of Supervisory Board (all Partners, additional external experts can be add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Definition of skills requirements for targeted researchers, ensuring adequate balance between scientific and technological training and complementary skills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cc00"/>
                      </a:solidFill>
                    </a:lnL>
                    <a:lnR w="18720">
                      <a:solidFill>
                        <a:srgbClr val="99cc00"/>
                      </a:solidFill>
                    </a:lnR>
                    <a:lnT w="18720">
                      <a:solidFill>
                        <a:srgbClr val="99cc00"/>
                      </a:solidFill>
                    </a:lnT>
                    <a:lnB w="1872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0" name="Text Box 118"/>
          <p:cNvSpPr/>
          <p:nvPr/>
        </p:nvSpPr>
        <p:spPr>
          <a:xfrm>
            <a:off x="357120" y="5715000"/>
            <a:ext cx="83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NB: </a:t>
            </a:r>
            <a:r>
              <a:rPr b="1" i="1" lang="en-IE" sz="1600" spc="-1" strike="noStrike">
                <a:solidFill>
                  <a:srgbClr val="ff0000"/>
                </a:solidFill>
                <a:latin typeface="Arial"/>
              </a:rPr>
              <a:t>Industry (private commercial) partners</a:t>
            </a:r>
            <a:r>
              <a:rPr b="0" i="1" lang="en-IE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must be included at the </a:t>
            </a:r>
            <a:r>
              <a:rPr b="1" i="1" lang="en-IE" sz="1600" spc="-1" strike="noStrike">
                <a:solidFill>
                  <a:srgbClr val="ff0000"/>
                </a:solidFill>
                <a:latin typeface="Arial"/>
              </a:rPr>
              <a:t>highest possible level</a:t>
            </a:r>
            <a:r>
              <a:rPr b="0" i="1" lang="en-IE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IE" sz="1600" spc="-1" strike="noStrike">
                <a:solidFill>
                  <a:srgbClr val="1c6445"/>
                </a:solidFill>
                <a:latin typeface="Arial"/>
              </a:rPr>
              <a:t>(Level 1 unless very well justified, in which case Level 2 will suffi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F8D-7E31-4154-BFC0-CC5E4848866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Private sector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358920" y="17985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At the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  <a:ea typeface="SimSun"/>
              </a:rPr>
              <a:t>highest possible level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Expected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  <a:ea typeface="SimSun"/>
              </a:rPr>
              <a:t>minimum</a:t>
            </a:r>
            <a:r>
              <a:rPr b="0" lang="en-IE" sz="2800" spc="-1" strike="noStrike">
                <a:solidFill>
                  <a:srgbClr val="99cc00"/>
                </a:solidFill>
                <a:latin typeface="Arial"/>
                <a:ea typeface="SimSun"/>
              </a:rPr>
              <a:t> 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involvement of industry is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Level 2 (it is NOT enough to include industry in the Supervisory Boar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Clear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evidence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of the </a:t>
            </a:r>
            <a:r>
              <a:rPr b="1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commitment of industry</a:t>
            </a:r>
            <a:r>
              <a:rPr b="0" lang="en-IE" sz="2800" spc="-1" strike="noStrike">
                <a:solidFill>
                  <a:srgbClr val="1c6445"/>
                </a:solidFill>
                <a:latin typeface="Arial"/>
                <a:ea typeface="SimSun"/>
              </a:rPr>
              <a:t> to be included in proposal (for Associated Partners letters of commitment signed by CEO / Director, not just Head of Research Department – should clearly spell out in which way the partner will contribute to the training program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E040-171E-4360-8447-76338D88328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Eligible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25"/>
          <p:cNvGrpSpPr/>
          <p:nvPr/>
        </p:nvGrpSpPr>
        <p:grpSpPr>
          <a:xfrm>
            <a:off x="646200" y="1989000"/>
            <a:ext cx="8173800" cy="4248000"/>
            <a:chOff x="646200" y="1989000"/>
            <a:chExt cx="8173800" cy="4248000"/>
          </a:xfrm>
        </p:grpSpPr>
        <p:sp>
          <p:nvSpPr>
            <p:cNvPr id="1253" name="Rectangle 4"/>
            <p:cNvSpPr/>
            <p:nvPr/>
          </p:nvSpPr>
          <p:spPr>
            <a:xfrm>
              <a:off x="6949080" y="4900320"/>
              <a:ext cx="187056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≥ </a:t>
              </a: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1 mon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Multiple st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5"/>
            <p:cNvSpPr/>
            <p:nvPr/>
          </p:nvSpPr>
          <p:spPr>
            <a:xfrm>
              <a:off x="2377800" y="4900320"/>
              <a:ext cx="457128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Experienced researchers </a:t>
              </a:r>
              <a:br>
                <a:rPr sz="1800"/>
              </a:b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(experience &gt;&gt; 4 years) </a:t>
              </a:r>
              <a:br>
                <a:rPr sz="1800"/>
              </a:br>
              <a:r>
                <a:rPr b="0" lang="en-GB" sz="1600" spc="-1" strike="noStrike">
                  <a:solidFill>
                    <a:srgbClr val="1c6445"/>
                  </a:solidFill>
                  <a:latin typeface="Verdana"/>
                </a:rPr>
                <a:t>with outstanding stature in international training and collaborative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6"/>
            <p:cNvSpPr/>
            <p:nvPr/>
          </p:nvSpPr>
          <p:spPr>
            <a:xfrm>
              <a:off x="646200" y="4900320"/>
              <a:ext cx="1731600" cy="13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6445"/>
                  </a:solidFill>
                  <a:latin typeface="Verdana"/>
                </a:rPr>
                <a:t>Visiting scienti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1c6445"/>
                  </a:solidFill>
                  <a:latin typeface="Verdana"/>
                </a:rPr>
                <a:t>(a limited numb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7"/>
            <p:cNvSpPr/>
            <p:nvPr/>
          </p:nvSpPr>
          <p:spPr>
            <a:xfrm>
              <a:off x="6949080" y="3852720"/>
              <a:ext cx="187056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3-24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8"/>
            <p:cNvSpPr/>
            <p:nvPr/>
          </p:nvSpPr>
          <p:spPr>
            <a:xfrm>
              <a:off x="2377800" y="3852720"/>
              <a:ext cx="457128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PhD or at least 4 years of research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&amp; Research experience ≤ </a:t>
              </a:r>
              <a:r>
                <a:rPr b="1" lang="en-GB" sz="1800" spc="-1" strike="noStrike">
                  <a:solidFill>
                    <a:srgbClr val="1c6445"/>
                  </a:solidFill>
                  <a:latin typeface="Verdana"/>
                </a:rPr>
                <a:t>5 years</a:t>
              </a: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9"/>
            <p:cNvSpPr/>
            <p:nvPr/>
          </p:nvSpPr>
          <p:spPr>
            <a:xfrm>
              <a:off x="646200" y="3852720"/>
              <a:ext cx="17316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1c6445"/>
                  </a:solidFill>
                  <a:latin typeface="Verdana"/>
                </a:rPr>
                <a:t>Experienced research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0"/>
            <p:cNvSpPr/>
            <p:nvPr/>
          </p:nvSpPr>
          <p:spPr>
            <a:xfrm>
              <a:off x="6949080" y="2779560"/>
              <a:ext cx="187056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3-36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1"/>
            <p:cNvSpPr/>
            <p:nvPr/>
          </p:nvSpPr>
          <p:spPr>
            <a:xfrm>
              <a:off x="2377800" y="2779560"/>
              <a:ext cx="457128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0 ≤ Research experience ≤ 4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No Ph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2"/>
            <p:cNvSpPr/>
            <p:nvPr/>
          </p:nvSpPr>
          <p:spPr>
            <a:xfrm>
              <a:off x="646200" y="2779560"/>
              <a:ext cx="1731600" cy="10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6445"/>
                  </a:solidFill>
                  <a:latin typeface="Verdana"/>
                </a:rPr>
                <a:t>Early stage researc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1c6445"/>
                  </a:solidFill>
                  <a:latin typeface="Verdana"/>
                </a:rPr>
                <a:t>(≥ 8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3"/>
            <p:cNvSpPr/>
            <p:nvPr/>
          </p:nvSpPr>
          <p:spPr>
            <a:xfrm>
              <a:off x="6949080" y="1989000"/>
              <a:ext cx="1870560" cy="7905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Duration of appoin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4"/>
            <p:cNvSpPr/>
            <p:nvPr/>
          </p:nvSpPr>
          <p:spPr>
            <a:xfrm>
              <a:off x="2377800" y="1989000"/>
              <a:ext cx="4571280" cy="7905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6445"/>
                  </a:solidFill>
                  <a:latin typeface="Verdana"/>
                </a:rPr>
                <a:t>Eligibility Criteria </a:t>
              </a:r>
              <a:r>
                <a:rPr b="1" lang="en-GB" sz="1800" spc="-1" strike="noStrike">
                  <a:solidFill>
                    <a:srgbClr val="1c6445"/>
                  </a:solidFill>
                  <a:latin typeface="Verdana"/>
                </a:rPr>
                <a:t>at the time of recrui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5"/>
            <p:cNvSpPr/>
            <p:nvPr/>
          </p:nvSpPr>
          <p:spPr>
            <a:xfrm>
              <a:off x="646200" y="1989000"/>
              <a:ext cx="173160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6"/>
            <p:cNvSpPr/>
            <p:nvPr/>
          </p:nvSpPr>
          <p:spPr>
            <a:xfrm>
              <a:off x="646200" y="1989000"/>
              <a:ext cx="81738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17"/>
            <p:cNvSpPr/>
            <p:nvPr/>
          </p:nvSpPr>
          <p:spPr>
            <a:xfrm>
              <a:off x="646200" y="277956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18"/>
            <p:cNvSpPr/>
            <p:nvPr/>
          </p:nvSpPr>
          <p:spPr>
            <a:xfrm>
              <a:off x="646200" y="385272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19"/>
            <p:cNvSpPr/>
            <p:nvPr/>
          </p:nvSpPr>
          <p:spPr>
            <a:xfrm>
              <a:off x="646200" y="4900320"/>
              <a:ext cx="8173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0"/>
            <p:cNvSpPr/>
            <p:nvPr/>
          </p:nvSpPr>
          <p:spPr>
            <a:xfrm>
              <a:off x="646200" y="6237000"/>
              <a:ext cx="81738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1"/>
            <p:cNvSpPr/>
            <p:nvPr/>
          </p:nvSpPr>
          <p:spPr>
            <a:xfrm>
              <a:off x="646200" y="1989000"/>
              <a:ext cx="0" cy="4248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22"/>
            <p:cNvSpPr/>
            <p:nvPr/>
          </p:nvSpPr>
          <p:spPr>
            <a:xfrm>
              <a:off x="2377800" y="1989000"/>
              <a:ext cx="0" cy="4248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23"/>
            <p:cNvSpPr/>
            <p:nvPr/>
          </p:nvSpPr>
          <p:spPr>
            <a:xfrm>
              <a:off x="6949080" y="1989000"/>
              <a:ext cx="0" cy="42480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24"/>
            <p:cNvSpPr/>
            <p:nvPr/>
          </p:nvSpPr>
          <p:spPr>
            <a:xfrm>
              <a:off x="8820000" y="1989000"/>
              <a:ext cx="0" cy="4248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Text Box 28"/>
          <p:cNvSpPr/>
          <p:nvPr/>
        </p:nvSpPr>
        <p:spPr>
          <a:xfrm rot="16200000">
            <a:off x="-501840" y="353088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INITI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29"/>
          <p:cNvSpPr/>
          <p:nvPr/>
        </p:nvSpPr>
        <p:spPr>
          <a:xfrm rot="16200000">
            <a:off x="-568440" y="540072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Transfer of NEW </a:t>
            </a:r>
            <a:br>
              <a:rPr sz="1400"/>
            </a:br>
            <a:r>
              <a:rPr b="1" lang="fr-BE" sz="1400" spc="-1" strike="noStrike">
                <a:solidFill>
                  <a:srgbClr val="1c6445"/>
                </a:solidFill>
                <a:latin typeface="Verdana"/>
              </a:rPr>
              <a:t>COMPET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54F4-1B0A-451F-B956-4DD8EB9E892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nsnation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/>
          </p:nvPr>
        </p:nvSpPr>
        <p:spPr>
          <a:xfrm>
            <a:off x="323640" y="179856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searchers can be nationals of any country (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no nationality criterion anymore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But: Nationals of Third Countries can only be recruited by hosts located in MS or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searchers must not have resided or carried out their main activity in the country of the host for more than 12 months in the 3 years immediately prior to their recru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pecial rules in case of </a:t>
            </a:r>
            <a:r>
              <a:rPr b="0" lang="en-US" sz="2800" spc="-1" strike="noStrike">
                <a:solidFill>
                  <a:srgbClr val="1c6445"/>
                </a:solidFill>
                <a:latin typeface="Arial"/>
                <a:ea typeface="SimSun"/>
              </a:rPr>
              <a:t>International organisations as host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4D8C-4624-44A8-B8BE-B556F29AF15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Role of visiting scienti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mplement the network’s capacity to transfer new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trengthen supervision of the network-wide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xceptional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 and duly justified, with explicit reference to the punctual training events he/she will provide or organi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Reasonable duration of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E3C-0DA9-41A8-8174-290E58C1F3D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ypical IT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323640" y="1978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644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  <a:ea typeface="SimSun"/>
              </a:rPr>
              <a:t>International conferences, workshops and other training and dissemination events (can / should to some extent be open to external researc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2675-781B-4860-9E34-1A0A9239384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428400" y="1785960"/>
            <a:ext cx="79930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raining on scientific and technological knowledge 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hrough research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:</a:t>
            </a:r>
            <a:br>
              <a:rPr sz="2800"/>
            </a:b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dividual personalised projects within the framework of the research topics defined by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Provision of 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tructured training courses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: </a:t>
            </a:r>
            <a:br>
              <a:rPr sz="2800"/>
            </a:b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utoring, lecture courses,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Available either locally or from another participant of the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Local training programmes to be coordinated to maximise added value</a:t>
            </a:r>
            <a:br>
              <a:rPr sz="2400"/>
            </a:b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2" descr=""/>
          <p:cNvPicPr/>
          <p:nvPr/>
        </p:nvPicPr>
        <p:blipFill>
          <a:blip r:embed="rId1"/>
          <a:stretch/>
        </p:blipFill>
        <p:spPr>
          <a:xfrm>
            <a:off x="0" y="3063960"/>
            <a:ext cx="4991040" cy="257004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Tahoma"/>
              </a:rPr>
              <a:t>FP7 overview (2007-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9"/>
          <p:cNvGrpSpPr/>
          <p:nvPr/>
        </p:nvGrpSpPr>
        <p:grpSpPr>
          <a:xfrm>
            <a:off x="330120" y="2506680"/>
            <a:ext cx="5623560" cy="4037760"/>
            <a:chOff x="330120" y="2506680"/>
            <a:chExt cx="5623560" cy="4037760"/>
          </a:xfrm>
        </p:grpSpPr>
        <p:sp>
          <p:nvSpPr>
            <p:cNvPr id="1163" name="Rectangle 10"/>
            <p:cNvSpPr/>
            <p:nvPr/>
          </p:nvSpPr>
          <p:spPr>
            <a:xfrm>
              <a:off x="566640" y="3487320"/>
              <a:ext cx="279396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llaborative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10 THEMATIC</a:t>
              </a:r>
              <a:br>
                <a:rPr sz="1200"/>
              </a:b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RE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"/>
            <p:cNvSpPr/>
            <p:nvPr/>
          </p:nvSpPr>
          <p:spPr>
            <a:xfrm>
              <a:off x="4250160" y="3454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E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2"/>
            <p:cNvSpPr/>
            <p:nvPr/>
          </p:nvSpPr>
          <p:spPr>
            <a:xfrm>
              <a:off x="3790440" y="5551200"/>
              <a:ext cx="1926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Capacities : M€</a:t>
              </a:r>
              <a:r>
                <a:rPr b="1" i="1" lang="fr-BE" sz="1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f00ff"/>
                  </a:solidFill>
                  <a:latin typeface="Arial"/>
                </a:rPr>
                <a:t>4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3"/>
            <p:cNvSpPr/>
            <p:nvPr/>
          </p:nvSpPr>
          <p:spPr>
            <a:xfrm>
              <a:off x="4335840" y="5140080"/>
              <a:ext cx="16178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990099"/>
                  </a:solidFill>
                  <a:latin typeface="Arial"/>
                </a:rPr>
                <a:t>People : M€ 4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4"/>
            <p:cNvSpPr/>
            <p:nvPr/>
          </p:nvSpPr>
          <p:spPr>
            <a:xfrm>
              <a:off x="3759480" y="4106520"/>
              <a:ext cx="10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ie Curi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3247920" y="451620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6"/>
            <p:cNvSpPr/>
            <p:nvPr/>
          </p:nvSpPr>
          <p:spPr>
            <a:xfrm>
              <a:off x="330120" y="2506680"/>
              <a:ext cx="2908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Cooperation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 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</a:rPr>
                <a:t>M</a:t>
              </a:r>
              <a:r>
                <a:rPr b="1" lang="fr-BE" sz="1400" spc="-1" strike="noStrike">
                  <a:solidFill>
                    <a:srgbClr val="fa040a"/>
                  </a:solidFill>
                  <a:latin typeface="Arial"/>
                  <a:ea typeface="Arial"/>
                </a:rPr>
                <a:t>€ 32 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7"/>
            <p:cNvSpPr/>
            <p:nvPr/>
          </p:nvSpPr>
          <p:spPr>
            <a:xfrm>
              <a:off x="525240" y="5678280"/>
              <a:ext cx="22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JRC : M€ 1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8"/>
            <p:cNvSpPr/>
            <p:nvPr/>
          </p:nvSpPr>
          <p:spPr>
            <a:xfrm>
              <a:off x="2997000" y="5576400"/>
              <a:ext cx="0" cy="47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 Box 19"/>
            <p:cNvSpPr/>
            <p:nvPr/>
          </p:nvSpPr>
          <p:spPr>
            <a:xfrm>
              <a:off x="2858760" y="6024240"/>
              <a:ext cx="20192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Euratom : M€ 2750</a:t>
              </a:r>
              <a:br>
                <a:rPr sz="1400"/>
              </a:br>
              <a:r>
                <a:rPr b="1" lang="fr-BE" sz="1400" spc="-1" strike="noStrike">
                  <a:solidFill>
                    <a:srgbClr val="009900"/>
                  </a:solidFill>
                  <a:latin typeface="Arial"/>
                </a:rPr>
                <a:t>Nuclear 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0"/>
            <p:cNvSpPr/>
            <p:nvPr/>
          </p:nvSpPr>
          <p:spPr>
            <a:xfrm>
              <a:off x="2247480" y="5627520"/>
              <a:ext cx="43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21"/>
            <p:cNvSpPr/>
            <p:nvPr/>
          </p:nvSpPr>
          <p:spPr>
            <a:xfrm>
              <a:off x="3579480" y="2531880"/>
              <a:ext cx="1346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Ideas 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9900"/>
                  </a:solidFill>
                  <a:latin typeface="Arial"/>
                  <a:ea typeface="Arial"/>
                </a:rPr>
                <a:t>M€ </a:t>
              </a:r>
              <a:r>
                <a:rPr b="1" lang="fr-BE" sz="1400" spc="-1" strike="noStrike">
                  <a:solidFill>
                    <a:srgbClr val="ff9900"/>
                  </a:solidFill>
                  <a:latin typeface="Arial"/>
                </a:rPr>
                <a:t>75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23"/>
          <p:cNvSpPr/>
          <p:nvPr/>
        </p:nvSpPr>
        <p:spPr>
          <a:xfrm>
            <a:off x="5029200" y="259092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FP7 budget : M€ 50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5"/>
          <p:cNvSpPr/>
          <p:nvPr/>
        </p:nvSpPr>
        <p:spPr>
          <a:xfrm>
            <a:off x="1143000" y="2133720"/>
            <a:ext cx="72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im : Contribute to EU becoming the world’s leading research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6"/>
          <p:cNvSpPr/>
          <p:nvPr/>
        </p:nvSpPr>
        <p:spPr>
          <a:xfrm>
            <a:off x="1219320" y="1600200"/>
            <a:ext cx="68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U’s main instrument for fund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0"/>
          <p:cNvSpPr/>
          <p:nvPr/>
        </p:nvSpPr>
        <p:spPr>
          <a:xfrm>
            <a:off x="4203720" y="5033880"/>
            <a:ext cx="2058840" cy="55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31"/>
          <p:cNvSpPr/>
          <p:nvPr/>
        </p:nvSpPr>
        <p:spPr>
          <a:xfrm>
            <a:off x="5908680" y="3191040"/>
            <a:ext cx="1908000" cy="99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2"/>
          <p:cNvSpPr/>
          <p:nvPr/>
        </p:nvSpPr>
        <p:spPr>
          <a:xfrm>
            <a:off x="5533920" y="3427560"/>
            <a:ext cx="24638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FP6 (2002-2006)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Marie Curie Actions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€</a:t>
            </a:r>
            <a:r>
              <a:rPr b="1" i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SimSun"/>
              </a:rPr>
              <a:t>158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3449-4DBD-4315-9E6C-D64CF9B7A9F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/>
          </p:nvPr>
        </p:nvSpPr>
        <p:spPr>
          <a:xfrm>
            <a:off x="503280" y="1714680"/>
            <a:ext cx="86407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ial visits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seco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Development of network-wide training activities : </a:t>
            </a:r>
            <a:br>
              <a:rPr sz="2400"/>
            </a:br>
            <a:r>
              <a:rPr b="0" i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workshops, summ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Exploitation of the interdisciplinary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aspects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Exposure of the participants to different schools of th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Provide complementary training in IPR, project management, presentation skills, language courses, ethics, communication, entrepreneurship, proposal writing, task coordin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Coordinated by a clearly identified Supervisor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3701-9430-4E72-929E-E4E9703C3B6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Train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Personal Career Development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For researchers recruited for ≥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arly Post-Do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Intersectoral</a:t>
            </a: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 or interdisciplinary Transfer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Taking part in the management of the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trainin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	</a:t>
            </a:r>
            <a:r>
              <a:rPr b="1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Training objective:</a:t>
            </a:r>
            <a:r>
              <a:rPr b="0" i="1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 to make them more independent and to provide them with the skills to become team leaders in the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6F89-65C2-4D9A-B2E3-DE05C47FF05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Network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scientific/managerial network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vitation of extern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Attendance at international conferences and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lectronic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llaboration with other IT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Organisation of a final network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916-C2F5-4BAB-8F88-323FD42AE6A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2"/>
          <p:cNvSpPr/>
          <p:nvPr/>
        </p:nvSpPr>
        <p:spPr>
          <a:xfrm>
            <a:off x="324000" y="108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International training and dissemina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International conferences, workshops, seminars, summer scho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hould provide an opportunit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xchange knowledge with more experienced resear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disseminate the skills and knowledg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should at least to some extent be open to external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Friday, 18</a:t>
            </a:r>
            <a:r>
              <a:rPr b="0" lang="en-US" sz="9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September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7D00-A0B5-4997-B16E-362C6D6C5BE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"/>
          <p:cNvSpPr/>
          <p:nvPr/>
        </p:nvSpPr>
        <p:spPr>
          <a:xfrm>
            <a:off x="324000" y="324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Supervisory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/>
          </p:nvPr>
        </p:nvSpPr>
        <p:spPr>
          <a:xfrm>
            <a:off x="324000" y="1978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learly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Ensures that scientific and technological training is balanced with complementary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  <a:ea typeface="SimSun"/>
              </a:rPr>
              <a:t>Composed of representatives of each of the participants in the network as well as external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c6445"/>
                </a:solidFill>
                <a:latin typeface="Arial"/>
                <a:ea typeface="SimSun"/>
              </a:rPr>
              <a:t>Industr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57160" y="139320"/>
            <a:ext cx="4214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a0061"/>
                </a:solidFill>
                <a:latin typeface="Tahoma"/>
              </a:rPr>
              <a:t>Community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1231920" y="1357200"/>
            <a:ext cx="791208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Living allowance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</a:t>
            </a:r>
            <a:r>
              <a:rPr b="1" i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38,000 / 19,000 per year (ESR: post-graduates)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58,500 / 29,250 per year (ER: 4-10 yea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 €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  <a:ea typeface="ＭＳ Ｐゴシック"/>
              </a:rPr>
              <a:t>87,500 / 43,750 per year (MER: &gt; 1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obility / travel allowance* € 700 or 1000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Research/training/networking costs  € 1800 per researcher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Small equipment expenses for SMEs max. 10 % of SME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Overheads 10% of direc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1c6445"/>
                </a:solidFill>
                <a:latin typeface="Arial"/>
              </a:rPr>
              <a:t>Management costs  max. 10% of total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8"/>
          <p:cNvSpPr/>
          <p:nvPr/>
        </p:nvSpPr>
        <p:spPr>
          <a:xfrm>
            <a:off x="457200" y="76212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Gross amounts (rates for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9"/>
          <p:cNvSpPr/>
          <p:nvPr/>
        </p:nvSpPr>
        <p:spPr>
          <a:xfrm>
            <a:off x="112680" y="6410160"/>
            <a:ext cx="636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c6445"/>
                </a:solidFill>
                <a:latin typeface="Arial"/>
                <a:ea typeface="SimSun"/>
              </a:rPr>
              <a:t>*</a:t>
            </a:r>
            <a:r>
              <a:rPr b="1" lang="en-GB" sz="1600" spc="-1" strike="noStrike">
                <a:solidFill>
                  <a:srgbClr val="1c6445"/>
                </a:solidFill>
                <a:latin typeface="Arial"/>
                <a:ea typeface="SimSun"/>
              </a:rPr>
              <a:t>Correction Coefficients apply; IE = 11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10"/>
          <p:cNvSpPr/>
          <p:nvPr/>
        </p:nvSpPr>
        <p:spPr>
          <a:xfrm>
            <a:off x="912960" y="1530360"/>
            <a:ext cx="318960" cy="2565360"/>
          </a:xfrm>
          <a:custGeom>
            <a:avLst/>
            <a:gdLst>
              <a:gd name="textAreaLeft" fmla="*/ 203760 w 318960"/>
              <a:gd name="textAreaRight" fmla="*/ 319320 w 31896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19040" indent="-4190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1"/>
          <p:cNvSpPr/>
          <p:nvPr/>
        </p:nvSpPr>
        <p:spPr>
          <a:xfrm rot="16200000">
            <a:off x="-790200" y="2580840"/>
            <a:ext cx="3022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Fellow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2"/>
          <p:cNvSpPr/>
          <p:nvPr/>
        </p:nvSpPr>
        <p:spPr>
          <a:xfrm>
            <a:off x="938160" y="4284720"/>
            <a:ext cx="262080" cy="1560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3"/>
          <p:cNvSpPr/>
          <p:nvPr/>
        </p:nvSpPr>
        <p:spPr>
          <a:xfrm rot="16200000">
            <a:off x="-235800" y="4709160"/>
            <a:ext cx="2235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19040" indent="-4190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Host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ull call docs and </a:t>
            </a:r>
            <a:r>
              <a:rPr b="1" i="1" lang="en-IE" sz="3600" spc="-1" strike="noStrike">
                <a:solidFill>
                  <a:srgbClr val="1c6445"/>
                </a:solidFill>
                <a:latin typeface="Franklin Gothic Book"/>
              </a:rPr>
              <a:t>Guide for Applica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http://cordis.europa.eu/fp7/dc/index.cfm</a:t>
            </a:r>
            <a:r>
              <a:rPr b="0" i="1" lang="en-US" sz="1400" spc="-1" strike="noStrike">
                <a:solidFill>
                  <a:srgbClr val="1c6445"/>
                </a:solidFill>
                <a:latin typeface="Franklin Gothic Book"/>
              </a:rPr>
              <a:t>?fuseaction=UserSite.PeopleDetailsCallPage&amp;call_id=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Financial Assistance for proposal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Academic - Coordination &amp; Tra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1c6445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1c6445"/>
                </a:solidFill>
                <a:latin typeface="Franklin Gothic Book"/>
                <a:ea typeface="ＭＳ Ｐゴシック"/>
              </a:rPr>
              <a:t>Companies (EI/IDA) – Proposal prepar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Text Box 2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0"/>
          <p:cNvSpPr/>
          <p:nvPr/>
        </p:nvSpPr>
        <p:spPr>
          <a:xfrm>
            <a:off x="250920" y="1844640"/>
            <a:ext cx="8642160" cy="42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Planning a proposal writing workshop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c6445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c6445"/>
                </a:solidFill>
                <a:latin typeface="Franklin Gothic Book"/>
              </a:rPr>
              <a:t>Also see following brochure fo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http://www.iua.ie/publications/documents/publications/2009/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1c6445"/>
                </a:solidFill>
                <a:latin typeface="Franklin Gothic Book"/>
              </a:rPr>
              <a:t>IUA_Marie_Curie_2009_IAPP_Success_Stories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04C9E359-5DF4-4AA9-87A6-B710E2575B17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0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962C846E-AB7E-4419-8CE8-EA4775C3E1A1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11:12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165240" y="162000"/>
            <a:ext cx="8978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1. Statistics: Fellows in Host countr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5" descr="MCFellowsinHostCountryPerTNR"/>
          <p:cNvPicPr/>
          <p:nvPr/>
        </p:nvPicPr>
        <p:blipFill>
          <a:blip r:embed="rId1"/>
          <a:stretch/>
        </p:blipFill>
        <p:spPr>
          <a:xfrm>
            <a:off x="646200" y="722160"/>
            <a:ext cx="7978680" cy="60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Last updated </a:t>
            </a:r>
            <a:fld id="{B25F8C97-EF82-40B2-B6B7-7399E3950692}" type="datetime">
              <a:rPr b="0" lang="en-GB" sz="900" spc="-1" strike="noStrike">
                <a:solidFill>
                  <a:srgbClr val="808080"/>
                </a:solidFill>
                <a:latin typeface="Arial"/>
              </a:rPr>
              <a:t>30/07/26</a:t>
            </a:fld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 </a:t>
            </a:r>
            <a:fld id="{762B7029-085D-4787-BB18-7F3AF2AE2291}" type="datetime10">
              <a:rPr b="0" lang="en-GB" sz="900" spc="-1" strike="noStrike">
                <a:solidFill>
                  <a:srgbClr val="808080"/>
                </a:solidFill>
                <a:latin typeface="Arial"/>
              </a:rPr>
              <a:t>11:12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"/>
          <p:cNvSpPr/>
          <p:nvPr/>
        </p:nvSpPr>
        <p:spPr>
          <a:xfrm>
            <a:off x="660240" y="250920"/>
            <a:ext cx="8077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1. Statistics: Fellows Nationality per 1000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4" descr="NationalityFellow_FP6PerTNR"/>
          <p:cNvPicPr/>
          <p:nvPr/>
        </p:nvPicPr>
        <p:blipFill>
          <a:blip r:embed="rId1"/>
          <a:stretch/>
        </p:blipFill>
        <p:spPr>
          <a:xfrm>
            <a:off x="692280" y="803160"/>
            <a:ext cx="777384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2F0-C163-4285-8B28-9DDB10606E5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"/>
          <p:cNvSpPr/>
          <p:nvPr/>
        </p:nvSpPr>
        <p:spPr>
          <a:xfrm>
            <a:off x="324000" y="108000"/>
            <a:ext cx="76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rie Curie Action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971640" y="179856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itial training of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arie Curie Initial Training Networks (IT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0"/>
          <p:cNvSpPr/>
          <p:nvPr/>
        </p:nvSpPr>
        <p:spPr>
          <a:xfrm>
            <a:off x="990720" y="251460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Life-long training and care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arie Curie Intra-European Fellowships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European Reintegration Grants (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Co-funding of regional/national/international programmes (COFUND</a:t>
            </a: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1"/>
          <p:cNvSpPr/>
          <p:nvPr/>
        </p:nvSpPr>
        <p:spPr>
          <a:xfrm>
            <a:off x="971640" y="377820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Industry-academia pathways and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dustry-Academia Pathways and Partnerships Scheme (IA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22"/>
          <p:cNvSpPr/>
          <p:nvPr/>
        </p:nvSpPr>
        <p:spPr>
          <a:xfrm>
            <a:off x="971640" y="4497480"/>
            <a:ext cx="7197480" cy="118728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1c6445"/>
                </a:solidFill>
                <a:latin typeface="Arial"/>
              </a:rPr>
              <a:t>International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Outgoing and Incoming Fellowships (IOF / IIF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c6445"/>
                </a:solidFill>
                <a:latin typeface="Arial"/>
              </a:rPr>
              <a:t>MC International Reintegration Grants (I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MC International Research Staff Exchange Scheme (I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23"/>
          <p:cNvSpPr/>
          <p:nvPr/>
        </p:nvSpPr>
        <p:spPr>
          <a:xfrm>
            <a:off x="971640" y="5757840"/>
            <a:ext cx="719748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996633"/>
                </a:solidFill>
                <a:latin typeface="Arial"/>
              </a:rPr>
              <a:t>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996633"/>
                </a:solidFill>
                <a:latin typeface="Arial"/>
              </a:rPr>
              <a:t>Researchers’ Night (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0" y="108000"/>
            <a:ext cx="7929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1c6445"/>
                </a:solidFill>
                <a:latin typeface="Arial"/>
              </a:rPr>
              <a:t>People’ – deadlines, budgets, succe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179280" y="2057400"/>
          <a:ext cx="8964720" cy="4175280"/>
        </p:xfrm>
        <a:graphic>
          <a:graphicData uri="http://schemas.openxmlformats.org/drawingml/2006/table">
            <a:tbl>
              <a:tblPr/>
              <a:tblGrid>
                <a:gridCol w="3292560"/>
                <a:gridCol w="1870200"/>
                <a:gridCol w="2017440"/>
                <a:gridCol w="1784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all Closes/  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ut-off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Budget (and budget/size per project, where applic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Success rates (exp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APP Industry Aca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Partnerships &amp; Path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80M€ (~250k€ - 3M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5% or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EF Intra-European Fellowships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OF International Outgoing Fellow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IF International Incoming Fellowsh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IRSES International Research Staff                   Exchange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 August 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1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5% - 20% depending on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RG Reintegration Gr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</a:t>
                      </a:r>
                      <a:r>
                        <a:rPr b="1" i="1" lang="en-GB" sz="1200" spc="-1" strike="noStrike" baseline="30000">
                          <a:solidFill>
                            <a:srgbClr val="996633"/>
                          </a:solidFill>
                          <a:latin typeface="Arial"/>
                        </a:rPr>
                        <a:t>nd</a:t>
                      </a: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 cut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 September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2M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ITN Initial Training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26 January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318M€ (average 3.4M€, 9 partn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1c6445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O-Funding of Regional, national &amp; International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7 February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90M€ (max. 5M€ per applica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70%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1368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022-E226-4954-9862-2B61E4DCDDD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Objectives of the IT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6445"/>
                </a:solidFill>
                <a:latin typeface="Arial"/>
              </a:rPr>
              <a:t>Directed at Early Stage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Strengthen and structure initial training of researchers at European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Attract students to scientific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Improve career perspectives by broad skills development (</a:t>
            </a: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cluding private sector needs</a:t>
            </a: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Date Placeholder 3"/>
          <p:cNvSpPr/>
          <p:nvPr/>
        </p:nvSpPr>
        <p:spPr>
          <a:xfrm>
            <a:off x="358920" y="6477120"/>
            <a:ext cx="221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4"/>
          <p:cNvSpPr/>
          <p:nvPr/>
        </p:nvSpPr>
        <p:spPr>
          <a:xfrm flipV="1" rot="10800000">
            <a:off x="3124080" y="642924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46B-6F0D-458D-AD64-102DF25DDC3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Main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323640" y="19065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International network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Joint Research Training Program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Training through 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Complementary competences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6445"/>
                </a:solidFill>
                <a:latin typeface="Arial"/>
              </a:rPr>
              <a:t>Exposure to both public and </a:t>
            </a:r>
            <a:r>
              <a:rPr b="1" lang="en-GB" sz="2400" spc="-1" strike="noStrike">
                <a:solidFill>
                  <a:srgbClr val="1c6445"/>
                </a:solidFill>
                <a:latin typeface="Arial"/>
              </a:rPr>
              <a:t>privat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6445"/>
                </a:solidFill>
                <a:latin typeface="Arial"/>
              </a:rPr>
              <a:t>Industr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Mutual recognition of the quality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6445"/>
                </a:solidFill>
                <a:latin typeface="Arial"/>
              </a:rPr>
              <a:t>Grant agreements with Commission for four years, max. duration of fellowships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Date Placeholder 3"/>
          <p:cNvSpPr/>
          <p:nvPr/>
        </p:nvSpPr>
        <p:spPr>
          <a:xfrm>
            <a:off x="35892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d, 2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4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A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5"/>
          <p:cNvSpPr/>
          <p:nvPr/>
        </p:nvSpPr>
        <p:spPr>
          <a:xfrm>
            <a:off x="683748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43A-26BE-4E91-9945-227571D5DC0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"/>
          <p:cNvSpPr/>
          <p:nvPr/>
        </p:nvSpPr>
        <p:spPr>
          <a:xfrm>
            <a:off x="324000" y="324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6445"/>
                </a:solidFill>
                <a:latin typeface="Arial"/>
              </a:rPr>
              <a:t>Research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3"/>
          <p:cNvSpPr/>
          <p:nvPr/>
        </p:nvSpPr>
        <p:spPr>
          <a:xfrm>
            <a:off x="324000" y="2781360"/>
            <a:ext cx="840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324000" y="19065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</a:rPr>
              <a:t>Bottom-u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c6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c6445"/>
                </a:solidFill>
                <a:latin typeface="Arial"/>
              </a:rPr>
              <a:t>Evaluation carried out in panels (applicant data 200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Chemistry (9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Social and Human Sciences (1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Economic Sciences (2.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Information Science and Engineering (20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Environmental and Geo-sciences (1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Life Scien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Mathematics (2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6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1c6445"/>
                </a:solidFill>
                <a:latin typeface="Arial"/>
              </a:rPr>
              <a:t>Physics (12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49:17Z</dcterms:created>
  <dc:creator>Celia Gallagher</dc:creator>
  <dc:description/>
  <dc:language>en-US</dc:language>
  <cp:lastModifiedBy>Conor O'Carroll</cp:lastModifiedBy>
  <dcterms:modified xsi:type="dcterms:W3CDTF">2010-09-29T06:04:10Z</dcterms:modified>
  <cp:revision>266</cp:revision>
  <dc:subject>NRP RIS Conference</dc:subject>
  <dc:title>PowerPoint Presentation</dc:title>
</cp:coreProperties>
</file>