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7.wmf" ContentType="image/x-wmf"/>
  <Override PartName="/ppt/media/image12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dt" idx="79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ftr" idx="80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 type="sldNum" idx="81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48F-3598-4D47-A611-7F667788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33D-B372-433F-9EC4-DB0907737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A68-A5F2-4425-9D75-0FE93E255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09A6-08B1-4FF5-8DDD-142D13B03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9B7-5D6E-4874-B759-BDE0564FB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CF26-1D93-4EC8-AF72-1B0BD6962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438-4186-425C-94C9-E5A040EE1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EDF3-9E8A-4E25-AA94-D9069C79E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8914-96EC-45A4-8596-1FAD2760E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58F-7651-4DA3-BA66-0FF347ED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089-F963-4540-BE6B-FBF985A21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28D-E467-4C43-86ED-8672613F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11EF-5055-41D2-BF55-BA9267B5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B511-9759-4979-8E84-0F6885D1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B201-FDC0-4D79-865C-D7787E30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CA5-3F1D-4A85-A3D9-0DC9B4ED4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25C-23D7-416E-BCD7-2B2DDDD6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201-14FB-4D4F-8894-0E152163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5E0-CE8E-4764-A7E0-7C72476E3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97B-23EB-4AB7-B849-BF0D08AA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670-3622-408C-839D-B4C0C73C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3CC72-3D0D-4F43-9ED8-F0F23A8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6D477-D10F-409D-917D-B3A54017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F51FD-66A9-4AEC-BD94-A083323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5D15-AE8E-4DF9-B3DB-0D1D1D3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9E672-4EA0-429C-8E32-21D6B3C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93021-D006-4151-9B74-91CF476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5E42-9940-49BB-A5FE-8EA641F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98431-7C16-4D92-9959-592D383D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3BF9-C2F3-434B-BD5E-CF6BD4D1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2EB68-8843-4830-A257-A568DD5B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36F-FBF0-483A-AB42-F1ECE4C5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93863-4415-4833-B330-B3EB54D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5BA82-1CBB-4C29-A370-29591344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B1F9C-529B-474A-8EE0-858F9B3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5A2F4-8C9E-44E9-A5D5-FF5E00A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A29DB-1312-4218-8EDF-52BF89D1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858A2-EE59-495F-AD36-7B76E8C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6B51-12CD-48D9-97DC-668F9AA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6C8A-D9E3-4782-9ED3-FE0C790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91F5E-5D80-4470-B265-380FD330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B98D1-FAF1-4E3A-BAD6-FBFBB5CF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5B5-09D0-4E72-94BD-715526D3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17C9-5723-4877-B2D6-2D8BB70F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9C347-F781-49D9-B4D0-3FF959E5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588E6-473B-4AD5-B20E-780E592A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8016-E63A-45C0-B3AE-11BD9EA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98CF-57F9-4D6E-9D68-AA1DB01A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8905B-7BC2-448F-A2A6-D20DD08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DE121-9F45-4294-8D28-7996ACD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FFE85-0FA4-4C4C-9CD9-5798D5E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A90E-BE6B-4015-8D03-EDC1523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AB3C1-7DB5-4649-84D2-E0ADC02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7484-B9CE-49E1-937B-A56BE513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F3DB8-E6BA-4029-85A9-DAA01FAD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C3D75-C9D4-4CE1-9BF1-007E6A59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17E27-C2CF-4ED2-A843-88C35BD5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94F2E-0DEF-42C7-8CD4-23AD061B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9989C-E583-4B62-9361-F7B6DA85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44D2D-4576-4DEF-B9F2-1AADBC52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2FEEB-5790-4D66-8749-343E093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F1E63-2F4B-4CCD-A98D-4DAD9A6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687B6-B0A1-4639-A2B2-936110A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031ED-36DB-4C30-8B1C-4EAE88C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0A1-439B-48B3-9EFD-14D924F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D46EC-EA64-4C08-8D7C-CD64CB8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0B818-1AEE-416E-8195-96ABE1D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36824-A42F-4508-A95B-365B095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545CA-39AC-4B76-B03A-5C94E91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80360-534B-42CE-B579-49476138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B4197-4496-4E8C-8C2D-8C57867F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EFFD7-EB56-42BE-B2DE-378ABC9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F9FB1-5887-42A1-BDA0-4837D51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76544-4771-4201-AA46-B31CAF1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98E44-4BC7-454C-BE82-AE9944A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594-A370-4CA6-BAD9-E53BAAE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2DDAC-2784-4EC4-B8E8-E14B74C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D1FAE-0885-4869-A0AB-08261CF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0A101-4008-4DC0-95E8-FE12F78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EF702-6F36-4954-AC3E-05350E2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38958-9CD5-4DB2-AD18-67D438C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CC356-5083-4F78-BE70-CA1AFB4D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1A414-285E-49B0-9883-6E161F1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54C1-9320-4DCC-9B06-F60E485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114DD-5755-4422-B689-A82DCBDA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7308-20B6-4AAE-9C80-AE65C2F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6178B-010B-43A1-BB99-34E7495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03E43-E067-4A65-BFCD-A3D60CA9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95013-17BB-4A3E-AFC0-35AFA57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6F156-2B7C-4588-A07A-51F725F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8EB03-1412-431A-BDFD-CE5513BE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BC4F0-824C-40C9-8E64-675F233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11C63-5EA0-4B38-A521-E0CD7BA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80389-285B-463C-A3AF-FCA290F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98D5F-7B73-40EF-8840-8FAD52BE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2E1FF-EB4E-4A79-8F68-1220E4C9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084-6F80-4479-9C3C-4500338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BF1C5-46C2-4DFA-8121-B0DE66A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9B104-DD70-45D7-A24B-E8FB1A1D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4A9D1-E0CD-4F4E-9D9A-7116E85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C25F0-0A20-4567-8752-5E9A145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86593-2DFC-475F-93A7-4E54E7A1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412E8-B689-4922-88FB-1A96FA1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E6CB7-FBA9-4E9B-A92D-41E76D0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C4E11-56ED-491D-AC31-F3F0148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FDCE5-2C2F-4E2A-A709-C81AE2E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1D7BD-8520-4C29-9BDF-18367F7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307F-8873-41F9-85D4-2368E1B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0A0B5-4698-4795-9007-E44C9DF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04A31-1951-41D0-BAD9-4A531C5C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DA904-FBD8-42D7-B802-345C8FC6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C6A5A-0241-4938-A506-8A77C4EC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44464-BF1A-4501-8730-A8E635E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23C76-C5A9-4711-8136-DA7CA95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A1C96-C30A-4366-96FB-8DC0CAE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53BA6-19F8-4E58-80A8-480667D0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C9EEE-87A1-4C73-9E13-8F34F17E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11CEC-7934-444E-AA6D-653E158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D25-3DDE-4C61-90A3-6B1FEF1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E99B-3E2E-43AC-AD1E-0B9D3EB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ACFB7-18FA-459D-B9AC-C973817C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DFA383-F357-46B9-B729-8EB73F8E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22413-4E92-4D43-A23F-964EB57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9B6DD-DB20-4CA8-AAC4-A04D93CA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8DB1-77CC-4830-8D60-FE55DAD6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BE39F-0468-48DF-9500-AD14E7A9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38C68-2BCD-46BA-A550-30C7B1E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267C5-B043-4338-AD25-DEBF107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2EE11-D8EC-4FA9-9E4D-8970387E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4A586-F47B-414A-945C-A38D229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2DE9-BEBE-43A1-B2E3-690E768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86727-6E66-4946-B099-03738845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E625D-3225-4417-B1A7-103555F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F7F5C-AD8B-4D6B-9B99-7593AF6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C236E-26A2-415D-BDED-4C95B6D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DE566-0264-4F45-B4CA-B9C241C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341F1-3628-46D6-9C59-FAA40A19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8EFD0-FE09-4FF2-B7BA-83EDFFD9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0167B-8DD9-4EBD-93A4-EED1AD46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A187A-FC70-4696-8906-5D21C99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5DE8D-F125-4BB1-B76B-92C1DC1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252-A2F3-4B4C-9E40-7EC6E52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EDC50-367E-4478-843E-8A59C2D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B4AE7-EF4A-4202-B59F-14F4CE4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6B9F5-4C52-4352-BA94-D289DC5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6FDA5-9A3D-4A5F-8383-000C3C8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8CD35-D847-4A9C-B783-71C83E0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AA83D-9D4C-4F64-A126-B6A48B4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67EC99-04DF-4364-BB7A-E9DE4980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22B72-117C-496C-B417-94555967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9F306-FBEA-4505-A352-C20B2BDC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00ECA-775B-467E-949D-63C50F73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ABB8-1E6B-4B2B-A044-B0A1AEF4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30681-94B3-4612-AC8F-644DCCB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14E82-A9DE-4420-B72C-C78F6D7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4B914-E6FC-4BDC-AC5C-D49F2AE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AB30A-CD7E-4606-924D-BDD3BAB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A4D1D-04EE-4668-A798-BEF323F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F8265-C67F-4423-8A2F-9DDB5D8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D40F8-C6D5-404F-A0C3-80ECD0C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7D2AE-63F1-481C-A1E6-199A035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4BB82-5C5D-4562-B212-4DD9695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F009F-2225-4DC9-BC76-DA394DD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7125-8684-4D8E-A3A9-FD397617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679F8-1179-42BE-8C5B-FB22EB2C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29B81-888A-4F93-BB73-6F26E7A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1FF15-E5B9-4BD8-851D-9E67576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EB468-1557-4E13-9F9B-35E95795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E9BC3-FC6B-4D94-A15A-1079AA34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D035A-86C5-4E3C-93D4-2D0FA0D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0A829-FC3C-4E0C-A0A9-4E5B2E0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FD0F9-C486-41FE-9BB8-44F74DB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325E9-C402-4CE4-ADE6-35A8453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84471-9869-4479-BA5C-05E30FE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081D-A98C-44DC-B9C1-E6DD606C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35A72-7945-4B8B-AB61-1A3437A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55592-6902-4DA1-AE40-F76052E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8E01C-ED33-452E-AACA-1FFBE298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E11CE-77CD-4A2E-86D3-24B9DE47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FD94F-71D4-4414-82CE-97E312C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CB0674-E145-443B-881E-B44ADC6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1989C-8971-4C25-B9C5-77403910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E13FE-3815-4B35-87E1-ECBDBF9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0D9E9-ED1D-4A79-901B-2CF6D37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F9A089-911A-4F59-A2D2-ABED0FD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BC8F-27CA-495A-9792-7F5414A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11FBA-25EB-4274-A55A-F9F0B3A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BEDBC-79D7-4121-8430-B07D482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84E0C-0A3A-43A1-8998-BE2B6DB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F279E0-A27D-4252-AD06-1CD374AD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BEE99-4C68-4671-B9A3-F1C4ACE2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31670-F222-4D7C-BC8E-DE402AFE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F629D-E1F8-4840-B821-AB29218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68151F-6652-4261-95F7-3A99C7A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D2CDA-3B73-410F-8C13-B6D10A8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659154-439A-4D93-886F-A369191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8C1B-CC40-4D11-97A9-F1D1055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7D66E9-6881-4CA3-929F-6E738485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244526-C0EA-4941-B46A-D4DD513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8A548-649D-4FA7-BD3C-A7502DA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82BDD7-38D3-4E0B-9E6E-054ED52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23E79-8CE7-4DF8-90A2-4DE38682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5836B-4416-4D38-9FB2-A1016085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681BA-9F82-4A5F-BD86-AFD8B6C4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FD77B8-2857-4A73-9633-3AE1E854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D175F3-B7B6-491A-96C2-C2119D5A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5FD40D-3EAB-42DD-9927-CFD7DEB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7B65-343D-4382-8160-8676367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7E37A-C1B0-48E4-8F0F-DF9C76A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F1BF5D-A696-41FD-A5BA-781C10E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125B79-0F69-49EA-8CBD-46E2C1F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F4892B-5F1E-447B-9D8E-F3F09AC4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95D9EF-165D-4280-B146-7D5CEBA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E115F-11A7-4E51-B64F-4BF9826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FE3062-168A-440B-881F-67F7D884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6B0DC-666E-4C79-A63A-3675EE19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5C91E-9D52-4198-8909-4B0BEAA5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849EA-25CC-4DE0-AA19-F25DA6F2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B50C-8BB9-425E-8B8A-118C5A9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7E248-582F-408B-8DCC-E4707E7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C5A20-79F9-4238-A957-15E157D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29400-85B9-4226-BE86-DE89229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8D6F9-3A64-478C-A9E9-12DC30F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11F36A-4C4F-43F1-8BC8-E04735E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F9A57-C5DC-4197-8768-3EFF5B2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13A397-89FA-4EAA-9777-4E33E9D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E93DAF-F8CB-4F6B-8F5C-F577F05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D748AD-6F4B-44AA-AB69-B417983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61C1C-136C-4560-9709-8C4147D6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36C-BB04-4926-96DC-55BE2AE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497C-8ED9-484C-92FD-F0CA382B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2B461D-4948-4756-BE11-03FAF6C6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2C4AE-15FE-4422-BF51-0A04AED9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06DB82-5A61-4121-818B-B956D2E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84C900-0B33-4BE9-8BA7-C7FD58E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538861-35A7-4E1B-B1EA-EB661B7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076589-017B-4F33-B473-0867C30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13697-24C4-4C28-8033-04420042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C2C587-4948-46BC-B42D-0A789E30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5ED6D-42FC-4C1C-A122-81B4283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070013-C5BF-4AC7-885C-0440666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4931-490B-4237-852D-1E32132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07B926-11CB-4CA7-9418-DDD5227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E3691C-D34C-48B2-8C78-95986C35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E36C35-CBAA-4E30-813D-CD48B27E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F85C37-A8FC-4140-957E-35667A75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05D744-1E08-45C9-8FCF-36DC09D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37BFC4-F222-40DC-83CC-7864796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8218AE-AC60-42BD-B5C3-AE2D1D99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FBD71B-C759-4741-983B-C80F1A0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3173F3-A70C-4BA1-BAAD-D8A2E51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D9D95C-E96E-47AB-B17D-D9C74737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94B2-5F50-4C30-A179-119E7E8B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B19881-D59F-4C43-8988-5931E6C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69F4B2-FE6A-4A4D-985F-EE09FC7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2B0123-18F4-4B54-9BBE-4A7129B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632027-48E1-4B20-8409-18B8F726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5526A1-FAB4-4CF1-AA88-3E777076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5B73-F6C9-48E3-850E-EFEE85D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969D-9199-4E58-BB15-B88D3B1D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7353-E332-4585-871E-5223980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D98D-E772-453F-B78D-214ABC97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452A-288F-4AF6-938E-975BC69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616A-A928-45C9-9134-9628B62B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5A2C-199F-43B0-91FB-28B6170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B12-3AEE-4CDE-AB69-C15FA3A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DDB0-E93D-4CE8-A4DA-2D0A778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0D28-ABDD-4324-8CA5-F0D01F65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144D-282C-4A58-A400-3E3E7D9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79F8-2B25-4EC4-A293-D4C500D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FFFF-FADE-49D2-A0A2-78BF35F9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A20C-3921-4469-94ED-D6C15597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73A1-C63B-41CC-BDD8-FA6AE29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4D2B-5F24-4950-BAE4-B2D6B348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A207-2F67-4554-90FE-4BA74A1B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F6BD-249B-401E-B0AC-40D89456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6BF-E716-4330-9553-859A88C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8305-81B8-411C-9ABD-DEC89AC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410A-374C-4CA8-975B-16B8A56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131A-B5DB-4BAE-A204-609C8BDD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EA37-7199-4237-A52D-C73AE2A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CECC-2A6F-4433-9F47-5CF33D72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3995-609F-4B25-9E15-A09BBAF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993AB-3B92-450B-81F8-F614DBF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C7EE-C271-49C9-B30F-93264A3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2F80-10F9-492B-AAB4-C7F9375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1220-EE72-4BAA-8455-3A101028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29A-DF7D-4E32-B78E-165B90AE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0A05-4A3B-4D4D-ACA7-BE324798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753B-798D-4A09-9454-79CD5794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F476-B1C8-45C6-91CF-6C1185B7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7922-24C9-429A-A57D-97BE9DE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2D75-EA0F-40A2-9B25-AB06B3F2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64E03-CCF4-4881-81E8-C442887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93F8-1A9E-4974-8E6D-7D127E0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96D6-8704-48E0-B097-CEA0441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0F84-3528-403C-AB8B-660D6D7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A57D-BE6E-4CD7-BBAE-DC35922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E65-46F4-4411-B676-71FB30A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C491-7B41-44F3-B02B-F7AA269D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CBC1-730A-4F39-A999-285B987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1BE4-4C49-4FAE-A5C7-5C808CCB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EE87-5C6C-4B45-980E-20A48C62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5D62-EA03-4226-BC19-BB2B2D0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AC36-4324-47DC-9991-0BDDF711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88B2-E86C-486C-9829-CC780B7A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2777-364B-4E2E-B048-46891C0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06CAF-2939-4ED1-9FA5-A0CED01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7991-A7A6-465A-B28C-5B78896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2E3-BEEB-4D3E-9E60-C196B18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73BA2-E6EB-4709-B2B6-F2C0F59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3348-31DD-417E-9643-DD53AC2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A13A-7779-4E40-BD0D-2C4F602B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2064-BD1C-4EF6-ADD5-E92C24FD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01E2-39D9-4B9B-A8DB-B41957C7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BB885-7BD1-4F10-8DEC-EBF321D3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4FE81-B2F7-45EC-A9D6-9A876D43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4236-66A0-4CF6-94B0-08EF677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B46A-1551-40F6-8C2B-A7040858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BA86-D109-44AC-9527-9CBD830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4F2-6711-4CB3-B344-B3D3894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72B60-797E-4A26-BFF8-C321E09D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12CA-2864-4E98-A74C-310C0FE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F5B0-3FEC-4BB7-8FDF-E35EA5CD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19CCD-DE17-4C3E-A003-2D75696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4451-C9E3-49DC-9006-F6CFBD8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8584D-6ECE-43B4-AD3C-6E559973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A734-0342-4985-A0A6-227DB381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9B19C-0CDF-4D51-9591-FBFBAC56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5F6F3-CEA7-47C4-A240-B4CA8F84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08C4-7D30-41FE-92D4-5BB347A4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13.xml"/><Relationship Id="rId10" Type="http://schemas.openxmlformats.org/officeDocument/2006/relationships/slideLayout" Target="../slideLayouts/slideLayout314.xml"/><Relationship Id="rId11" Type="http://schemas.openxmlformats.org/officeDocument/2006/relationships/slideLayout" Target="../slideLayouts/slideLayout315.xml"/><Relationship Id="rId12" Type="http://schemas.openxmlformats.org/officeDocument/2006/relationships/slideLayout" Target="../slideLayouts/slideLayout316.xml"/><Relationship Id="rId13" Type="http://schemas.openxmlformats.org/officeDocument/2006/relationships/slideLayout" Target="../slideLayouts/slideLayout317.xml"/><Relationship Id="rId14" Type="http://schemas.openxmlformats.org/officeDocument/2006/relationships/slideLayout" Target="../slideLayouts/slideLayout318.xml"/><Relationship Id="rId15" Type="http://schemas.openxmlformats.org/officeDocument/2006/relationships/slideLayout" Target="../slideLayouts/slideLayout319.xml"/><Relationship Id="rId16" Type="http://schemas.openxmlformats.org/officeDocument/2006/relationships/slideLayout" Target="../slideLayouts/slideLayout320.xml"/><Relationship Id="rId17" Type="http://schemas.openxmlformats.org/officeDocument/2006/relationships/slideLayout" Target="../slideLayouts/slideLayout321.xml"/><Relationship Id="rId18" Type="http://schemas.openxmlformats.org/officeDocument/2006/relationships/slideLayout" Target="../slideLayouts/slideLayout322.xml"/><Relationship Id="rId19" Type="http://schemas.openxmlformats.org/officeDocument/2006/relationships/slideLayout" Target="../slideLayouts/slideLayout323.xml"/><Relationship Id="rId20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EF6-2E75-4A6B-9765-ABB18E856EA0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CFD-EB48-40F6-BF92-D8F86B4783C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dt" idx="2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8E9D-7450-4095-8790-54AC64250F8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3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6D7-FAD2-402A-9773-38EF5D6A7E39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dt" idx="3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219-9C3F-4C45-A6BD-450E04C7312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3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6CF4-6783-4862-BF10-F20B22307E9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F4E-D8EC-4ACD-A927-4BB28789606C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B97-E176-48EF-AAC0-C21348F59F0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dt" idx="3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C7FB-AE6A-4FFF-B4A0-29BA6C8A4602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ftr" idx="3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91CE-2E37-45C5-AD3F-2DFF4ECB9BD6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IUA PP Screen 1a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dt" idx="4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F53-5BAF-4AAB-8962-3FCB2C28D888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4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4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4A44-C8D6-4FB4-8E04-3F40CC61182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dt" idx="4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BE57-F909-462C-A643-D0DE7BACCDC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ftr" idx="4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4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106-16DD-4560-B190-008F5CF3AE2D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dt" idx="4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6A2-0BC3-447C-A9B2-5FD27113EF57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4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4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AB78-6087-4437-88D3-AAE220C6CB6B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dt" idx="4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748-8C0C-41BE-8F89-FB07D69D3F6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ftr" idx="5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5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43F-457A-4A62-9555-78B82D23B0D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dt" idx="5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BA3-80DF-4511-BED5-0A3975571F9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5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5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9670-DD54-4A2B-92B7-599AA21635C5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DED-A542-407C-BF6D-8835653E681B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BD3-9B1D-4DBE-9C53-099B73840A2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5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A27-E9C3-4EF8-B5B7-7790E381EA25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5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5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2DC-9696-4510-ACDB-30F43A5D1D6C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dt" idx="5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B07-42F9-4B72-A74D-8080561AAF9E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ftr" idx="5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6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2F34-18D3-49C0-A1F8-153CC4BF73EC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dt" idx="6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D1A-2479-4698-86C2-B1BFF2CCC5C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6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6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55E-D223-4BEA-AA09-BDCB5CD5515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dt" idx="6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294-00AC-4F81-ADEB-C5B32FFCC46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ftr" idx="6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6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A59-7BBA-441F-B061-E04C1866184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dt" idx="6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AC7-A404-4CB2-A556-139564618F6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ftr" idx="6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Num" idx="6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DCEB-6E13-4132-B32F-7AA9ADA8053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dt" idx="7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9647-8013-4239-972F-3834A75074A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ftr" idx="7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7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AC5-0B06-474F-901D-8BE1C53383AA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dt" idx="7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9AA8-3D73-4D19-BB47-D495813819DD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ftr" idx="7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sldNum" idx="7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9E79-42C4-4999-96E5-7F8B3F0847CF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6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D71-99BF-4894-A29B-3618BC080DB7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vrijdag 31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77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78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3A0C-9964-4473-B0B3-129A907F1DE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9"/>
    <p:sldLayoutId id="2147483988" r:id="rId10"/>
    <p:sldLayoutId id="2147483989" r:id="rId11"/>
    <p:sldLayoutId id="2147483990" r:id="rId12"/>
    <p:sldLayoutId id="2147483991" r:id="rId13"/>
    <p:sldLayoutId id="2147483992" r:id="rId14"/>
    <p:sldLayoutId id="2147483993" r:id="rId15"/>
    <p:sldLayoutId id="2147483994" r:id="rId16"/>
    <p:sldLayoutId id="2147483995" r:id="rId17"/>
    <p:sldLayoutId id="2147483996" r:id="rId18"/>
    <p:sldLayoutId id="2147483997" r:id="rId19"/>
    <p:sldLayoutId id="2147483998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18A-924C-4076-A3F0-C5E015D5A095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279-CCD7-4BCE-9770-607596A6D086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446-151C-43DF-BDF6-2C1647D25B2C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56F4-5FF3-4769-A2E5-4D35B14DFCD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F97-CF1F-4EA7-B0DF-AA36AB184614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vrijdag 31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E1C-8464-42D7-AFF6-DDD952A1509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178-2F76-4D94-AB3F-7DBE2EB0621D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FEF5-C3A6-436D-8E8E-C6DE5912637E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dt" idx="1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4965-A2DD-4057-8598-CD3DDF57D2C8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7CE-588C-4D37-987B-279C96F03A8A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2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D339-3D04-4C4D-8530-2CA07D891388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E674-2A6A-45B2-805B-AFEC3930638D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dt" idx="2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9AD-5359-4BD0-809C-672BE7F34663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D2B-7957-49F9-9D09-3B26CC11782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ordis.europa.eu/fp7/dc/index.cfm" TargetMode="External"/><Relationship Id="rId2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2"/>
          <p:cNvSpPr/>
          <p:nvPr/>
        </p:nvSpPr>
        <p:spPr>
          <a:xfrm>
            <a:off x="0" y="1447920"/>
            <a:ext cx="914400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FP7 Marie Cu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Industry / Academic Partnership and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Dr Conor O’Carroll, I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321120" y="6400800"/>
            <a:ext cx="208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dnesday, 29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8028000" y="64008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iu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5"/>
          <p:cNvSpPr/>
          <p:nvPr/>
        </p:nvSpPr>
        <p:spPr>
          <a:xfrm>
            <a:off x="1525680" y="1346040"/>
            <a:ext cx="610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At least 1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non-commercial 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At least 1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commerci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861840" y="2412720"/>
            <a:ext cx="783144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c6445"/>
                </a:solidFill>
                <a:latin typeface="Tahoma"/>
              </a:rPr>
              <a:t>       </a:t>
            </a:r>
            <a:r>
              <a:rPr b="1" lang="fr-BE" sz="2000" spc="-1" strike="noStrike">
                <a:solidFill>
                  <a:srgbClr val="1c6445"/>
                </a:solidFill>
                <a:latin typeface="Tahoma"/>
              </a:rPr>
              <a:t>Non-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Universities/research cen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Non-profit or charitable organi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International European interest organi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Joint Research Centre of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International organisations (WHO, UNE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c6445"/>
                </a:solidFill>
                <a:latin typeface="Tahoma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Commercial enterprises of </a:t>
            </a:r>
            <a:r>
              <a:rPr b="1" lang="en-GB" sz="2000" spc="-1" strike="noStrike" u="sng">
                <a:solidFill>
                  <a:srgbClr val="1c6445"/>
                </a:solidFill>
                <a:uFillTx/>
                <a:latin typeface="Tahoma"/>
              </a:rPr>
              <a:t>ALL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 sizes (incl. SMEs, spin offs, start 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National organisations if 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1285560" y="214200"/>
            <a:ext cx="4143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</a:t>
            </a:r>
            <a:r>
              <a:rPr b="0" lang="fr-BE" sz="2800" spc="-1" strike="noStrike">
                <a:solidFill>
                  <a:srgbClr val="8a0061"/>
                </a:solidFill>
                <a:latin typeface="Tahoma"/>
              </a:rPr>
              <a:t>Participa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6"/>
          <p:cNvSpPr/>
          <p:nvPr/>
        </p:nvSpPr>
        <p:spPr>
          <a:xfrm>
            <a:off x="969840" y="1846440"/>
            <a:ext cx="7991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8"/>
          <p:cNvSpPr/>
          <p:nvPr/>
        </p:nvSpPr>
        <p:spPr>
          <a:xfrm>
            <a:off x="969840" y="1363680"/>
            <a:ext cx="7459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19040" indent="-419040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At least 2 different </a:t>
            </a:r>
            <a:r>
              <a:rPr b="1" lang="en-GB" sz="2200" spc="-1" strike="noStrike">
                <a:solidFill>
                  <a:srgbClr val="1c6445"/>
                </a:solidFill>
                <a:latin typeface="Arial"/>
              </a:rPr>
              <a:t>EU </a:t>
            </a: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or</a:t>
            </a:r>
            <a:r>
              <a:rPr b="1" lang="en-GB" sz="2200" spc="-1" strike="noStrike">
                <a:solidFill>
                  <a:srgbClr val="1c6445"/>
                </a:solidFill>
                <a:latin typeface="Arial"/>
              </a:rPr>
              <a:t> Associated States</a:t>
            </a: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1c6445"/>
                </a:solidFill>
                <a:latin typeface="Arial"/>
              </a:rPr>
              <a:t>+ free cho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EU Member States (MS) &amp; Associated Countries (AC):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EU27 + </a:t>
            </a:r>
            <a:r>
              <a:rPr b="0" i="1" lang="en-GB" sz="2000" spc="-1" strike="noStrike">
                <a:solidFill>
                  <a:srgbClr val="1c6445"/>
                </a:solidFill>
                <a:latin typeface="Arial"/>
              </a:rPr>
              <a:t>Switzerland, Israel, Norway, Iceland, Liechtenstein, Turkey, Croatia, FYROM, Serbia, Albania, Montenegro, Bos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Third Countries”  2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International Cooperation Partner Countries (ICPC):</a:t>
            </a:r>
            <a:br>
              <a:rPr sz="2000"/>
            </a:br>
            <a:r>
              <a:rPr b="0" i="1" lang="en-GB" sz="2000" spc="-1" strike="noStrike">
                <a:solidFill>
                  <a:srgbClr val="1c6445"/>
                </a:solidFill>
                <a:latin typeface="Arial"/>
              </a:rPr>
              <a:t>based on three categories according to income per capita </a:t>
            </a:r>
            <a:br>
              <a:rPr sz="2000"/>
            </a:br>
            <a:r>
              <a:rPr b="0" i="1" lang="en-GB" sz="2000" spc="-1" strike="noStrike">
                <a:solidFill>
                  <a:srgbClr val="1c6445"/>
                </a:solidFill>
                <a:latin typeface="Arial"/>
              </a:rPr>
              <a:t>(low-income, lower-middle-income, or upper-middle-inc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Other Third Countries (OTC):</a:t>
            </a:r>
            <a:br>
              <a:rPr sz="2000"/>
            </a:br>
            <a:r>
              <a:rPr b="0" i="1" lang="fr-BE" sz="2000" spc="-1" strike="noStrike">
                <a:solidFill>
                  <a:srgbClr val="1c6445"/>
                </a:solidFill>
                <a:latin typeface="Arial"/>
              </a:rPr>
              <a:t>US, Canada, Japan, South Korea, Singapore, </a:t>
            </a:r>
            <a:br>
              <a:rPr sz="2000"/>
            </a:br>
            <a:r>
              <a:rPr b="0" i="1" lang="fr-BE" sz="2000" spc="-1" strike="noStrike">
                <a:solidFill>
                  <a:srgbClr val="1c6445"/>
                </a:solidFill>
                <a:latin typeface="Arial"/>
              </a:rPr>
              <a:t>Australia, New Zea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28440" y="202680"/>
            <a:ext cx="32144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</a:t>
            </a:r>
            <a:r>
              <a:rPr b="0" lang="fr-BE" sz="2800" spc="-1" strike="noStrike">
                <a:solidFill>
                  <a:srgbClr val="8a0061"/>
                </a:solidFill>
                <a:latin typeface="Tahoma"/>
              </a:rPr>
              <a:t>Participa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326520" y="1223640"/>
            <a:ext cx="8256600" cy="53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Tahoma"/>
                <a:ea typeface="SimSun"/>
              </a:rPr>
              <a:t>             </a:t>
            </a:r>
            <a:r>
              <a:rPr b="1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Compulsory Secondment</a:t>
            </a: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Majority of support in IA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Always inter-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Normally 2-way with in-buil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Up to 30% for secondments within 1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Optional Recruitment</a:t>
            </a: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 of experienced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Not substitute for secondment (&lt;=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c6445"/>
                </a:solidFill>
                <a:latin typeface="Tahoma"/>
                <a:ea typeface="SimSu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Networ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7680" indent="-33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Tahoma"/>
                <a:ea typeface="SimSun"/>
              </a:rPr>
              <a:t>Workshops &amp; Conferences: participants' own research staff &amp; external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title"/>
          </p:nvPr>
        </p:nvSpPr>
        <p:spPr>
          <a:xfrm>
            <a:off x="1213920" y="202680"/>
            <a:ext cx="4000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</a:t>
            </a:r>
            <a:r>
              <a:rPr b="0" lang="fr-BE" sz="2800" spc="-1" strike="noStrike">
                <a:solidFill>
                  <a:srgbClr val="8a0061"/>
                </a:solidFill>
                <a:latin typeface="Tahoma"/>
              </a:rPr>
              <a:t>Mai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3"/>
          <p:cNvSpPr/>
          <p:nvPr/>
        </p:nvSpPr>
        <p:spPr>
          <a:xfrm>
            <a:off x="685800" y="1523880"/>
            <a:ext cx="77295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Second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Early-stage/Experienced researchers (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SimSun"/>
              </a:rPr>
              <a:t>2-24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Must be staff members for at least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Reintegration into the home institution for at least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Recruitment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Experienced researchers from any country (12-24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34"/>
          <p:cNvSpPr/>
          <p:nvPr/>
        </p:nvSpPr>
        <p:spPr>
          <a:xfrm>
            <a:off x="4406760" y="4183200"/>
            <a:ext cx="4521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7800" indent="-577800">
              <a:lnSpc>
                <a:spcPct val="9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Experienced researchers 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2 pay scales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4-10 years experience </a:t>
            </a: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(ER)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&gt;10 years of research </a:t>
            </a: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(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43000" y="203040"/>
            <a:ext cx="42861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Eligible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39"/>
          <p:cNvSpPr/>
          <p:nvPr/>
        </p:nvSpPr>
        <p:spPr>
          <a:xfrm>
            <a:off x="630360" y="4183200"/>
            <a:ext cx="42926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7800" indent="-577800">
              <a:lnSpc>
                <a:spcPct val="9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Early-stage researchers </a:t>
            </a:r>
            <a:r>
              <a:rPr b="1" lang="en-GB" sz="2000" spc="-1" strike="noStrike">
                <a:solidFill>
                  <a:srgbClr val="1c6445"/>
                </a:solidFill>
                <a:latin typeface="Arial"/>
              </a:rPr>
              <a:t>(ESR)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 Experience ≤ 4 years 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No PhD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6"/>
          <p:cNvSpPr/>
          <p:nvPr/>
        </p:nvSpPr>
        <p:spPr>
          <a:xfrm>
            <a:off x="1212840" y="1606680"/>
            <a:ext cx="705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Seco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No nation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Researchers not residing / having main activity in country of the host &gt; 12 months in last 3 years before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Hosts in ICPC or OTC can only recruit MS or AC na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213920" y="228240"/>
            <a:ext cx="4000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Nationality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3071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104840" y="1482480"/>
            <a:ext cx="7075440" cy="45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978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Tahoma"/>
              </a:rPr>
              <a:t>Joint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Research of mutual interest to al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Milestones &amp;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Secondments underpin co-operation between </a:t>
            </a:r>
            <a:br>
              <a:rPr sz="2000"/>
            </a:b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partners in different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Possibility to recruit experienced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Tahoma"/>
              </a:rPr>
              <a:t>Networ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Organisation of scientific/managerial network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Invitation of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Attendance at international conferences &amp;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1c6445"/>
                </a:solidFill>
                <a:latin typeface="Tahoma"/>
              </a:rPr>
              <a:t>Electronic networking (internet webpages, email, video confere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57160" y="139320"/>
            <a:ext cx="4214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Community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1231920" y="1357200"/>
            <a:ext cx="791208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Living allowance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</a:t>
            </a:r>
            <a:r>
              <a:rPr b="1" i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38,000 / 19,000 per year (ESR: post-graduates)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58,500 / 29,250 per year (ER: 4-10 yea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87,500 / 43,750 per year (MER: &gt; 1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obility / travel allowance* € 700 or 1000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Research/training/networking costs  € 1800 per researcher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Small equipment expenses for SMEs max. 10 % of SME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Overheads 10% of direc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anagement costs  max. 10% of total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457200" y="76212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Gross amounts (rates for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112680" y="6410160"/>
            <a:ext cx="636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c6445"/>
                </a:solidFill>
                <a:latin typeface="Arial"/>
                <a:ea typeface="SimSun"/>
              </a:rPr>
              <a:t>*</a:t>
            </a:r>
            <a:r>
              <a:rPr b="1" lang="en-GB" sz="1600" spc="-1" strike="noStrike">
                <a:solidFill>
                  <a:srgbClr val="1c6445"/>
                </a:solidFill>
                <a:latin typeface="Arial"/>
                <a:ea typeface="SimSun"/>
              </a:rPr>
              <a:t>Correction Coefficients apply; IE = 11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10"/>
          <p:cNvSpPr/>
          <p:nvPr/>
        </p:nvSpPr>
        <p:spPr>
          <a:xfrm>
            <a:off x="912960" y="1530360"/>
            <a:ext cx="318960" cy="2565360"/>
          </a:xfrm>
          <a:custGeom>
            <a:avLst/>
            <a:gdLst>
              <a:gd name="textAreaLeft" fmla="*/ 203760 w 318960"/>
              <a:gd name="textAreaRight" fmla="*/ 319320 w 31896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1"/>
          <p:cNvSpPr/>
          <p:nvPr/>
        </p:nvSpPr>
        <p:spPr>
          <a:xfrm rot="16200000">
            <a:off x="-790200" y="2580840"/>
            <a:ext cx="3022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Fellow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12"/>
          <p:cNvSpPr/>
          <p:nvPr/>
        </p:nvSpPr>
        <p:spPr>
          <a:xfrm>
            <a:off x="938160" y="4284720"/>
            <a:ext cx="262080" cy="1560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3"/>
          <p:cNvSpPr/>
          <p:nvPr/>
        </p:nvSpPr>
        <p:spPr>
          <a:xfrm rot="16200000">
            <a:off x="-235800" y="4709160"/>
            <a:ext cx="2235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Host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71720" y="333360"/>
            <a:ext cx="400032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What does IAPP o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1042920" y="1962000"/>
            <a:ext cx="77058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100%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Simple application procedure: short and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Few reporting requirements – 2 main reports in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Support – in particular N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Top class public and private sect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Marie Curie lab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Networking and confere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SMEs – equipment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dustry-Academia Partnerships and </a:t>
            </a:r>
            <a:br>
              <a:rPr sz="2800"/>
            </a:b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Pathways (IA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Duration: 3-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Funds the associated salary costs and contribution to research, management and overh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Call open on 30 July 2010, deadline 7 Decembe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Budget €8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Success rate 2009: 17% (Ireland 3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2"/>
          <p:cNvSpPr/>
          <p:nvPr/>
        </p:nvSpPr>
        <p:spPr>
          <a:xfrm>
            <a:off x="324000" y="108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dustry-Academia Partnerships and Pathways (IAP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Object 2"/>
          <p:cNvGraphicFramePr/>
          <p:nvPr/>
        </p:nvGraphicFramePr>
        <p:xfrm>
          <a:off x="250920" y="1844640"/>
          <a:ext cx="3827520" cy="173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3827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Object 3"/>
          <p:cNvGraphicFramePr/>
          <p:nvPr/>
        </p:nvGraphicFramePr>
        <p:xfrm>
          <a:off x="4427640" y="1844640"/>
          <a:ext cx="4495680" cy="192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844640"/>
                    <a:ext cx="44956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4"/>
          <p:cNvGraphicFramePr/>
          <p:nvPr/>
        </p:nvGraphicFramePr>
        <p:xfrm>
          <a:off x="4427640" y="4221000"/>
          <a:ext cx="4495680" cy="1928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4221000"/>
                    <a:ext cx="44956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Text Box 6"/>
          <p:cNvSpPr/>
          <p:nvPr/>
        </p:nvSpPr>
        <p:spPr>
          <a:xfrm>
            <a:off x="395280" y="3716280"/>
            <a:ext cx="3691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1c6445"/>
                </a:solidFill>
                <a:latin typeface="Arial"/>
              </a:rPr>
              <a:t>Slow start in 2007… not a single successful proposal with Irish particip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1c6445"/>
                </a:solidFill>
                <a:latin typeface="Arial"/>
              </a:rPr>
              <a:t>Increased interest (and success!!) in 2008. 6 out of 9 Irish proposals f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1c6445"/>
                </a:solidFill>
                <a:latin typeface="Arial"/>
              </a:rPr>
              <a:t>Only two of the seven universities involved in IAP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2" descr=""/>
          <p:cNvPicPr/>
          <p:nvPr/>
        </p:nvPicPr>
        <p:blipFill>
          <a:blip r:embed="rId1"/>
          <a:stretch/>
        </p:blipFill>
        <p:spPr>
          <a:xfrm>
            <a:off x="0" y="3063960"/>
            <a:ext cx="4991040" cy="257004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FP7 overview (2007-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9"/>
          <p:cNvGrpSpPr/>
          <p:nvPr/>
        </p:nvGrpSpPr>
        <p:grpSpPr>
          <a:xfrm>
            <a:off x="330120" y="2506680"/>
            <a:ext cx="5623560" cy="4037760"/>
            <a:chOff x="330120" y="2506680"/>
            <a:chExt cx="5623560" cy="4037760"/>
          </a:xfrm>
        </p:grpSpPr>
        <p:sp>
          <p:nvSpPr>
            <p:cNvPr id="1123" name="Rectangle 10"/>
            <p:cNvSpPr/>
            <p:nvPr/>
          </p:nvSpPr>
          <p:spPr>
            <a:xfrm>
              <a:off x="566640" y="3487320"/>
              <a:ext cx="279396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llaborative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10 THEMATIC</a:t>
              </a:r>
              <a:br>
                <a:rPr sz="1200"/>
              </a:b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RE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1"/>
            <p:cNvSpPr/>
            <p:nvPr/>
          </p:nvSpPr>
          <p:spPr>
            <a:xfrm>
              <a:off x="4250160" y="3454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E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2"/>
            <p:cNvSpPr/>
            <p:nvPr/>
          </p:nvSpPr>
          <p:spPr>
            <a:xfrm>
              <a:off x="3790440" y="5551200"/>
              <a:ext cx="1926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Capacities : M€</a:t>
              </a:r>
              <a:r>
                <a:rPr b="1" i="1" lang="fr-BE" sz="1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4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3"/>
            <p:cNvSpPr/>
            <p:nvPr/>
          </p:nvSpPr>
          <p:spPr>
            <a:xfrm>
              <a:off x="4335840" y="5140080"/>
              <a:ext cx="16178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990099"/>
                  </a:solidFill>
                  <a:latin typeface="Arial"/>
                </a:rPr>
                <a:t>People : M€ 4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4"/>
            <p:cNvSpPr/>
            <p:nvPr/>
          </p:nvSpPr>
          <p:spPr>
            <a:xfrm>
              <a:off x="3759480" y="4106520"/>
              <a:ext cx="10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ie Curi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5"/>
            <p:cNvSpPr/>
            <p:nvPr/>
          </p:nvSpPr>
          <p:spPr>
            <a:xfrm>
              <a:off x="3247920" y="451620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6"/>
            <p:cNvSpPr/>
            <p:nvPr/>
          </p:nvSpPr>
          <p:spPr>
            <a:xfrm>
              <a:off x="330120" y="2506680"/>
              <a:ext cx="2908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Cooperation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M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  <a:ea typeface="Arial"/>
                </a:rPr>
                <a:t>€ 32 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7"/>
            <p:cNvSpPr/>
            <p:nvPr/>
          </p:nvSpPr>
          <p:spPr>
            <a:xfrm>
              <a:off x="525240" y="5678280"/>
              <a:ext cx="22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JRC : M€ 1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8"/>
            <p:cNvSpPr/>
            <p:nvPr/>
          </p:nvSpPr>
          <p:spPr>
            <a:xfrm>
              <a:off x="2997000" y="5576400"/>
              <a:ext cx="0" cy="47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9"/>
            <p:cNvSpPr/>
            <p:nvPr/>
          </p:nvSpPr>
          <p:spPr>
            <a:xfrm>
              <a:off x="2858760" y="6024240"/>
              <a:ext cx="20192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Euratom : M€ 2750</a:t>
              </a:r>
              <a:br>
                <a:rPr sz="1400"/>
              </a:b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Nuclear 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20"/>
            <p:cNvSpPr/>
            <p:nvPr/>
          </p:nvSpPr>
          <p:spPr>
            <a:xfrm>
              <a:off x="2247480" y="5627520"/>
              <a:ext cx="43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21"/>
            <p:cNvSpPr/>
            <p:nvPr/>
          </p:nvSpPr>
          <p:spPr>
            <a:xfrm>
              <a:off x="3579480" y="2531880"/>
              <a:ext cx="1346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Ideas 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  <a:ea typeface="Arial"/>
                </a:rPr>
                <a:t>M€ </a:t>
              </a: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75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Text Box 23"/>
          <p:cNvSpPr/>
          <p:nvPr/>
        </p:nvSpPr>
        <p:spPr>
          <a:xfrm>
            <a:off x="5029200" y="259092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FP7 budget : M€ 50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25"/>
          <p:cNvSpPr/>
          <p:nvPr/>
        </p:nvSpPr>
        <p:spPr>
          <a:xfrm>
            <a:off x="1143000" y="2133720"/>
            <a:ext cx="72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im : Contribute to EU becoming the world’s leading research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26"/>
          <p:cNvSpPr/>
          <p:nvPr/>
        </p:nvSpPr>
        <p:spPr>
          <a:xfrm>
            <a:off x="1219320" y="1600200"/>
            <a:ext cx="68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U’s main instrument for fund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4203720" y="5033880"/>
            <a:ext cx="2058840" cy="55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1"/>
          <p:cNvSpPr/>
          <p:nvPr/>
        </p:nvSpPr>
        <p:spPr>
          <a:xfrm>
            <a:off x="5908680" y="3191040"/>
            <a:ext cx="1908000" cy="99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2"/>
          <p:cNvSpPr/>
          <p:nvPr/>
        </p:nvSpPr>
        <p:spPr>
          <a:xfrm>
            <a:off x="5533920" y="3427560"/>
            <a:ext cx="24638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FP6 (2002-2006)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Marie Curie Actions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€</a:t>
            </a:r>
            <a:r>
              <a:rPr b="1" i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158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dustry-Academia Partnerships and </a:t>
            </a:r>
            <a:br>
              <a:rPr sz="2800"/>
            </a:b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Pathways (IA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990720" y="1828800"/>
          <a:ext cx="6248160" cy="3168720"/>
        </p:xfrm>
        <a:graphic>
          <a:graphicData uri="http://schemas.openxmlformats.org/drawingml/2006/table">
            <a:tbl>
              <a:tblPr/>
              <a:tblGrid>
                <a:gridCol w="1847880"/>
                <a:gridCol w="1199880"/>
                <a:gridCol w="1524240"/>
                <a:gridCol w="167616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103 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0!!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141</a:t>
                      </a:r>
                      <a:r>
                        <a:rPr b="1" lang="en-GB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358 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2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Evalu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141 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356 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2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Se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51 (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59 </a:t>
                      </a:r>
                      <a:r>
                        <a:rPr b="1" i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Budget (M E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Success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36 % </a:t>
                      </a:r>
                      <a:r>
                        <a:rPr b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6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23a78"/>
                          </a:solidFill>
                          <a:latin typeface="Tahoma"/>
                        </a:rPr>
                        <a:t>16.6 % </a:t>
                      </a:r>
                      <a:r>
                        <a:rPr b="1" i="1" lang="fr-BE" sz="14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(4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1c6445"/>
                          </a:solidFill>
                          <a:latin typeface="Tahoma"/>
                        </a:rPr>
                        <a:t>*Ireland in br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Overall Country Participation EU 27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533520" y="1828800"/>
          <a:ext cx="1778040" cy="4602240"/>
        </p:xfrm>
        <a:graphic>
          <a:graphicData uri="http://schemas.openxmlformats.org/drawingml/2006/table">
            <a:tbl>
              <a:tblPr/>
              <a:tblGrid>
                <a:gridCol w="593640"/>
                <a:gridCol w="590400"/>
                <a:gridCol w="59400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A li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U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F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1c6445"/>
                          </a:solidFill>
                          <a:latin typeface="Tahoma"/>
                          <a:ea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1c6445"/>
                          </a:solidFill>
                          <a:latin typeface="Tahoma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1c6445"/>
                          </a:solidFill>
                          <a:latin typeface="Tahoma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F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B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P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P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D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N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H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C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E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L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C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4" name="Object 2"/>
          <p:cNvGraphicFramePr/>
          <p:nvPr/>
        </p:nvGraphicFramePr>
        <p:xfrm>
          <a:off x="2771640" y="1844640"/>
          <a:ext cx="58867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58867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Coordinator’s Countr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7" name="Object 2"/>
          <p:cNvGraphicFramePr/>
          <p:nvPr/>
        </p:nvGraphicFramePr>
        <p:xfrm>
          <a:off x="1143000" y="1828800"/>
          <a:ext cx="7391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2"/>
          <p:cNvSpPr/>
          <p:nvPr/>
        </p:nvSpPr>
        <p:spPr>
          <a:xfrm>
            <a:off x="324000" y="108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dustry-Academia Partnerships and Pathways (IAPP) -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21 Irish led 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9 fu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NUIM, NUIG, TCD, UCD, DIT, DKIT,  NCAD, R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DePuy, Oncomark, Vo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ull call docs and </a:t>
            </a:r>
            <a:r>
              <a:rPr b="1" i="1" lang="en-IE" sz="3600" spc="-1" strike="noStrike">
                <a:solidFill>
                  <a:srgbClr val="1c6445"/>
                </a:solidFill>
                <a:latin typeface="Franklin Gothic Book"/>
              </a:rPr>
              <a:t>Guide for Applica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http://cordis.europa.eu/fp7/dc/index.cfm</a:t>
            </a:r>
            <a:r>
              <a:rPr b="0" i="1" lang="en-US" sz="1400" spc="-1" strike="noStrike">
                <a:solidFill>
                  <a:srgbClr val="1c6445"/>
                </a:solidFill>
                <a:latin typeface="Franklin Gothic Book"/>
              </a:rPr>
              <a:t>?fuseaction=UserSite.PeopleDetailsCallPage&amp;call_id=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inancial Assistance for proposal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Academic - Coordination &amp; Tra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Companies (EI/IDA) – Proposal prepar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Planning a proposal writing workshop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Also see following brochure fo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http://www.iua.ie/publications/documents/publications/2009/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IUA_Marie_Curie_2009_IAPP_Success_Stories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50,000</a:t>
            </a:r>
            <a:r>
              <a:rPr b="1" lang="en-IE" sz="3600" spc="-1" strike="noStrike" baseline="30000">
                <a:solidFill>
                  <a:srgbClr val="1c6445"/>
                </a:solidFill>
                <a:latin typeface="Franklin Gothic Book"/>
              </a:rPr>
              <a:t>th</a:t>
            </a: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 Marie Curie Fellow Cele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I want 3 nominees from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Deadline 7</a:t>
            </a:r>
            <a:r>
              <a:rPr b="1" lang="en-IE" sz="3600" spc="-1" strike="noStrike" baseline="30000">
                <a:solidFill>
                  <a:srgbClr val="1c6445"/>
                </a:solidFill>
                <a:latin typeface="Franklin Gothic Book"/>
              </a:rPr>
              <a:t>th</a:t>
            </a: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8AF3BA57-6BF9-45C1-82ED-B4E1DC369EAD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1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00B6D73C-4380-4586-A5C2-8348890C12FF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16: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165240" y="162000"/>
            <a:ext cx="8978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1. Statistics: Fellows in Host countr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MCFellowsinHostCountryPerTNR"/>
          <p:cNvPicPr/>
          <p:nvPr/>
        </p:nvPicPr>
        <p:blipFill>
          <a:blip r:embed="rId1"/>
          <a:stretch/>
        </p:blipFill>
        <p:spPr>
          <a:xfrm>
            <a:off x="646200" y="722160"/>
            <a:ext cx="7978680" cy="60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25F64A6F-EBA9-420A-A53E-EB6512922F77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1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AF6BFFFC-0015-4E6D-90E5-B89D36641267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16: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660240" y="250920"/>
            <a:ext cx="8077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1. Statistics: Fellows Nationalit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4" descr="NationalityFellow_FP6PerTNR"/>
          <p:cNvPicPr/>
          <p:nvPr/>
        </p:nvPicPr>
        <p:blipFill>
          <a:blip r:embed="rId1"/>
          <a:stretch/>
        </p:blipFill>
        <p:spPr>
          <a:xfrm>
            <a:off x="692280" y="803160"/>
            <a:ext cx="777384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EB9-69D1-4DA7-AF14-C348F83CD50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324000" y="108000"/>
            <a:ext cx="76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rie Curie Action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971640" y="179856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itial training of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arie Curie Initial Training Networks (IT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20"/>
          <p:cNvSpPr/>
          <p:nvPr/>
        </p:nvSpPr>
        <p:spPr>
          <a:xfrm>
            <a:off x="990720" y="251460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Life-long training and care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arie Curie Intra-European Fellowships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European Reintegration Grants (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Co-funding of regional/national/international programmes (COFUND</a:t>
            </a: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1"/>
          <p:cNvSpPr/>
          <p:nvPr/>
        </p:nvSpPr>
        <p:spPr>
          <a:xfrm>
            <a:off x="971640" y="377820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dustry-academia pathways and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dustry-Academia Pathways and Partnerships Scheme (IA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2"/>
          <p:cNvSpPr/>
          <p:nvPr/>
        </p:nvSpPr>
        <p:spPr>
          <a:xfrm>
            <a:off x="971640" y="449748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Internation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Outgoing and Incoming Fellowships (IOF / IIF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Reintegration Grants (I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ternational Research Staff Exchange Scheme (I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3"/>
          <p:cNvSpPr/>
          <p:nvPr/>
        </p:nvSpPr>
        <p:spPr>
          <a:xfrm>
            <a:off x="971640" y="575784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Researchers’ Night (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0" y="108000"/>
            <a:ext cx="7929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1c6445"/>
                </a:solidFill>
                <a:latin typeface="Arial"/>
              </a:rPr>
              <a:t>People’ – deadlines, budgets, succe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6" name=""/>
          <p:cNvGraphicFramePr/>
          <p:nvPr/>
        </p:nvGraphicFramePr>
        <p:xfrm>
          <a:off x="0" y="2060640"/>
          <a:ext cx="8964720" cy="4181400"/>
        </p:xfrm>
        <a:graphic>
          <a:graphicData uri="http://schemas.openxmlformats.org/drawingml/2006/table">
            <a:tbl>
              <a:tblPr/>
              <a:tblGrid>
                <a:gridCol w="3292560"/>
                <a:gridCol w="1869840"/>
                <a:gridCol w="2017800"/>
                <a:gridCol w="1784520"/>
              </a:tblGrid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all Closes/  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ut-off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Budget (and budget/size per project, where applic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Success rates (exp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IAPP Industry Aca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Partnerships &amp; Path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7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80M€ (~250k€ - 3M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15% or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EF Intra-European Fellowships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OF International Outgoing Fellow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IF International Incoming Fellowsh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RSES International Research Staff                   Exchange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 August 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5% - 20% depending on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RG Reintegration Gr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</a:t>
                      </a:r>
                      <a:r>
                        <a:rPr b="1" i="1" lang="en-GB" sz="1200" spc="-1" strike="noStrike" baseline="30000">
                          <a:solidFill>
                            <a:srgbClr val="996633"/>
                          </a:solidFill>
                          <a:latin typeface="Arial"/>
                        </a:rPr>
                        <a:t>nd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 cut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 Sept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2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TN Initial Training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6 Jan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18M€ (average 3.4M€, 9 partn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O-Funding of Regional, national &amp; International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90M€ (max. 5M€ per applica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2"/>
          <p:cNvSpPr/>
          <p:nvPr/>
        </p:nvSpPr>
        <p:spPr>
          <a:xfrm>
            <a:off x="324000" y="108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6445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Focus is on knowledge transfer between academia an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Support for creation, development and reinforcement and execution of strategic partnerships, aimed at knowledge sharing and inter-sector mobility, based on targeted human resources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Open to all disciplines – from Engineering to Social Sciences and Huma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Bottom-up – no pre-defined topics o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dustry-Academia Partnerships and </a:t>
            </a:r>
            <a:br>
              <a:rPr sz="2800"/>
            </a:b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Pathways (IA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Minimum configuration is a university and company (one in Ireland, one abr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Funds staff exchang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early stage (Ph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experienced researchers (Postdoc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Research manag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Also funds hiring of additional staff (experienced resear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22"/>
          <p:cNvSpPr/>
          <p:nvPr/>
        </p:nvSpPr>
        <p:spPr>
          <a:xfrm>
            <a:off x="944640" y="1712880"/>
            <a:ext cx="71546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19040" indent="-41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Foster co-operation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between </a:t>
            </a:r>
            <a:r>
              <a:rPr b="0" lang="en-GB" sz="2400" spc="-1" strike="noStrike" u="sng">
                <a:solidFill>
                  <a:srgbClr val="1c6445"/>
                </a:solidFill>
                <a:uFillTx/>
                <a:latin typeface="Arial"/>
              </a:rPr>
              <a:t>non-commerci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research organisations &amp; </a:t>
            </a:r>
            <a:r>
              <a:rPr b="0" lang="en-GB" sz="2400" spc="-1" strike="noStrike" u="sng">
                <a:solidFill>
                  <a:srgbClr val="1c6445"/>
                </a:solidFill>
                <a:uFillTx/>
                <a:latin typeface="Arial"/>
              </a:rPr>
              <a:t>commerci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enterprises based on joint research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Stimulate long-term collaboration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between sectors through secondment of researchers between the public &amp; private research dom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Diverse career possibilities &amp; research experience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 for researchers, knowledge sharing/cultural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000080" y="304560"/>
            <a:ext cx="45957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IAPP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56:01Z</dcterms:created>
  <dc:creator>Celia Gallagher</dc:creator>
  <dc:description/>
  <dc:language>en-US</dc:language>
  <cp:lastModifiedBy>user</cp:lastModifiedBy>
  <dcterms:modified xsi:type="dcterms:W3CDTF">2010-09-29T09:41:36Z</dcterms:modified>
  <cp:revision>265</cp:revision>
  <dc:subject>NRP RIS Conference</dc:subject>
  <dc:title>PowerPoint Presentation</dc:title>
</cp:coreProperties>
</file>